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02C-2150-44EE-BA48-37777939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DC4-B48C-44A1-B76D-9AC3C517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C67-4DA9-4CF6-B325-CC4230CD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BD8-0BBD-49D5-9A1F-3F052D32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8C8F-4599-40B3-8F11-F2062E3B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4E61-99F3-4E09-9D57-8ED0E288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8B11-9001-4FE8-B422-A447DCF7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6AD3-466E-4C75-8963-A18D5210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8D5B-5AD6-4594-9E0D-C76770A5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3684-CF9E-4ED0-B565-E292D6C7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FC72-4B78-4687-BF65-3DD96260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E1D-B5F2-4084-8323-BD7568F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9F87-8BAF-408F-BF4B-4A93526D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6015-8DE5-47AA-A4F8-CAB7042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0C34-38FC-4570-A544-6CBA0414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9103-E84C-4498-8048-B6747D4C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15CC-74B8-4375-88AE-E7D82FBA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D457-62B1-45AF-8609-A6CE4F29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4659-6CE3-4D27-A7CD-55A4696A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2375-F882-404A-9414-A699834D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DC9C4-75BD-4EAF-B917-F3D92154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2E83-B7AC-45D6-BC0E-ADC2592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5C7-965F-4491-A49A-41F8F00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DCEE-3EB8-493B-8F0A-529DDB3F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DF1C-787F-4ED7-9C5A-4E5B07A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5D18-8A41-4884-9929-369EC17E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56C4-7C2E-416C-BB64-A1F38BC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5A0E3-3028-40DA-BD95-637BD84B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91A9-E966-41EC-835B-3E930C79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49FD-CC8D-46A3-BEBB-AD1FE429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11777-956F-4E6F-88D6-B03082B7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A1801-55B4-47BA-BA6B-F1FF68A6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DEA7-482A-4FF5-B0D8-C738886A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80F-864E-4897-A914-FC268643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5EBB0-F016-46F2-81F6-23344D78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59D9-E4CA-4933-8EF3-62BF095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AB245-900D-4413-9EBE-CEB77A0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C3E6-9739-424A-8033-A9942D9B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D3EE-13B5-42FA-B291-8C8982CB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3A03-3486-42D2-B02D-86105DA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6812-EB9A-409F-B7DC-18EE0694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0485-625A-45ED-80EA-0758332C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154E-D6FF-4340-B6A7-AA11760B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EF7-9CEE-4E00-9BB8-90E863A6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05A-9DC0-4536-82EF-6B558D51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BEE-EB31-4A66-A888-DF7C9B56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8D0-8F2A-4646-8DC9-06D7EDA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044-A63E-44CE-8F6A-41072246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96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969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5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766E-73BE-4494-BBC9-E8566FA42406}" type="slidenum">
              <a:rPr b="0" lang="en-US" sz="1200" spc="-1" strike="noStrike">
                <a:solidFill>
                  <a:srgbClr val="9596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5"/>
          <p:cNvGrpSpPr/>
          <p:nvPr/>
        </p:nvGrpSpPr>
        <p:grpSpPr>
          <a:xfrm>
            <a:off x="1969920" y="1278000"/>
            <a:ext cx="4957920" cy="3290760"/>
            <a:chOff x="1969920" y="1278000"/>
            <a:chExt cx="4957920" cy="3290760"/>
          </a:xfrm>
        </p:grpSpPr>
        <p:sp>
          <p:nvSpPr>
            <p:cNvPr id="42" name="Freeform 77"/>
            <p:cNvSpPr/>
            <p:nvPr/>
          </p:nvSpPr>
          <p:spPr>
            <a:xfrm>
              <a:off x="1969920" y="2946240"/>
              <a:ext cx="179640" cy="111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5" h="14">
                  <a:moveTo>
                    <a:pt x="220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2" y="2"/>
                  </a:lnTo>
                  <a:lnTo>
                    <a:pt x="224" y="3"/>
                  </a:lnTo>
                  <a:lnTo>
                    <a:pt x="225" y="5"/>
                  </a:lnTo>
                  <a:lnTo>
                    <a:pt x="225" y="7"/>
                  </a:lnTo>
                  <a:lnTo>
                    <a:pt x="225" y="7"/>
                  </a:lnTo>
                  <a:lnTo>
                    <a:pt x="225" y="10"/>
                  </a:lnTo>
                  <a:lnTo>
                    <a:pt x="224" y="12"/>
                  </a:lnTo>
                  <a:lnTo>
                    <a:pt x="222" y="13"/>
                  </a:lnTo>
                  <a:lnTo>
                    <a:pt x="220" y="14"/>
                  </a:lnTo>
                  <a:lnTo>
                    <a:pt x="220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3" name="Freeform 78"/>
            <p:cNvSpPr/>
            <p:nvPr/>
          </p:nvSpPr>
          <p:spPr>
            <a:xfrm>
              <a:off x="2139840" y="2033640"/>
              <a:ext cx="405000" cy="9237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510" h="1165">
                  <a:moveTo>
                    <a:pt x="7" y="1165"/>
                  </a:moveTo>
                  <a:lnTo>
                    <a:pt x="7" y="1165"/>
                  </a:lnTo>
                  <a:lnTo>
                    <a:pt x="3" y="1164"/>
                  </a:lnTo>
                  <a:lnTo>
                    <a:pt x="3" y="1164"/>
                  </a:lnTo>
                  <a:lnTo>
                    <a:pt x="2" y="1163"/>
                  </a:lnTo>
                  <a:lnTo>
                    <a:pt x="0" y="1161"/>
                  </a:lnTo>
                  <a:lnTo>
                    <a:pt x="0" y="1158"/>
                  </a:lnTo>
                  <a:lnTo>
                    <a:pt x="1" y="1156"/>
                  </a:lnTo>
                  <a:lnTo>
                    <a:pt x="497" y="4"/>
                  </a:lnTo>
                  <a:lnTo>
                    <a:pt x="497" y="4"/>
                  </a:lnTo>
                  <a:lnTo>
                    <a:pt x="498" y="2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5" y="0"/>
                  </a:lnTo>
                  <a:lnTo>
                    <a:pt x="508" y="3"/>
                  </a:lnTo>
                  <a:lnTo>
                    <a:pt x="509" y="5"/>
                  </a:lnTo>
                  <a:lnTo>
                    <a:pt x="510" y="7"/>
                  </a:lnTo>
                  <a:lnTo>
                    <a:pt x="509" y="10"/>
                  </a:lnTo>
                  <a:lnTo>
                    <a:pt x="12" y="1161"/>
                  </a:lnTo>
                  <a:lnTo>
                    <a:pt x="12" y="1161"/>
                  </a:lnTo>
                  <a:lnTo>
                    <a:pt x="10" y="1164"/>
                  </a:lnTo>
                  <a:lnTo>
                    <a:pt x="7" y="1165"/>
                  </a:lnTo>
                  <a:lnTo>
                    <a:pt x="7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4" name="Freeform 79"/>
            <p:cNvSpPr/>
            <p:nvPr/>
          </p:nvSpPr>
          <p:spPr>
            <a:xfrm>
              <a:off x="2533680" y="2033640"/>
              <a:ext cx="1730520" cy="93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80" h="13">
                  <a:moveTo>
                    <a:pt x="217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3"/>
                  </a:lnTo>
                  <a:lnTo>
                    <a:pt x="2180" y="4"/>
                  </a:lnTo>
                  <a:lnTo>
                    <a:pt x="2180" y="7"/>
                  </a:lnTo>
                  <a:lnTo>
                    <a:pt x="2180" y="7"/>
                  </a:lnTo>
                  <a:lnTo>
                    <a:pt x="2180" y="10"/>
                  </a:lnTo>
                  <a:lnTo>
                    <a:pt x="2177" y="12"/>
                  </a:lnTo>
                  <a:lnTo>
                    <a:pt x="2176" y="13"/>
                  </a:lnTo>
                  <a:lnTo>
                    <a:pt x="2173" y="13"/>
                  </a:lnTo>
                  <a:lnTo>
                    <a:pt x="217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5" name="Freeform 81"/>
            <p:cNvSpPr/>
            <p:nvPr/>
          </p:nvSpPr>
          <p:spPr>
            <a:xfrm>
              <a:off x="4254480" y="1582560"/>
              <a:ext cx="542880" cy="4604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86" h="580">
                  <a:moveTo>
                    <a:pt x="6" y="580"/>
                  </a:moveTo>
                  <a:lnTo>
                    <a:pt x="6" y="580"/>
                  </a:lnTo>
                  <a:lnTo>
                    <a:pt x="4" y="580"/>
                  </a:lnTo>
                  <a:lnTo>
                    <a:pt x="1" y="578"/>
                  </a:lnTo>
                  <a:lnTo>
                    <a:pt x="1" y="578"/>
                  </a:lnTo>
                  <a:lnTo>
                    <a:pt x="0" y="575"/>
                  </a:lnTo>
                  <a:lnTo>
                    <a:pt x="0" y="573"/>
                  </a:lnTo>
                  <a:lnTo>
                    <a:pt x="0" y="571"/>
                  </a:lnTo>
                  <a:lnTo>
                    <a:pt x="2" y="569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7" y="0"/>
                  </a:lnTo>
                  <a:lnTo>
                    <a:pt x="680" y="0"/>
                  </a:lnTo>
                  <a:lnTo>
                    <a:pt x="682" y="2"/>
                  </a:lnTo>
                  <a:lnTo>
                    <a:pt x="684" y="3"/>
                  </a:lnTo>
                  <a:lnTo>
                    <a:pt x="684" y="3"/>
                  </a:lnTo>
                  <a:lnTo>
                    <a:pt x="686" y="5"/>
                  </a:lnTo>
                  <a:lnTo>
                    <a:pt x="686" y="7"/>
                  </a:lnTo>
                  <a:lnTo>
                    <a:pt x="686" y="10"/>
                  </a:lnTo>
                  <a:lnTo>
                    <a:pt x="683" y="12"/>
                  </a:lnTo>
                  <a:lnTo>
                    <a:pt x="10" y="579"/>
                  </a:lnTo>
                  <a:lnTo>
                    <a:pt x="10" y="579"/>
                  </a:lnTo>
                  <a:lnTo>
                    <a:pt x="8" y="580"/>
                  </a:lnTo>
                  <a:lnTo>
                    <a:pt x="6" y="580"/>
                  </a:lnTo>
                  <a:lnTo>
                    <a:pt x="6" y="58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6" name="Freeform 84"/>
            <p:cNvSpPr/>
            <p:nvPr/>
          </p:nvSpPr>
          <p:spPr>
            <a:xfrm>
              <a:off x="4254480" y="2033640"/>
              <a:ext cx="547560" cy="45720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690" h="578">
                  <a:moveTo>
                    <a:pt x="683" y="578"/>
                  </a:moveTo>
                  <a:lnTo>
                    <a:pt x="683" y="578"/>
                  </a:lnTo>
                  <a:lnTo>
                    <a:pt x="681" y="578"/>
                  </a:lnTo>
                  <a:lnTo>
                    <a:pt x="680" y="57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688" y="566"/>
                  </a:lnTo>
                  <a:lnTo>
                    <a:pt x="688" y="566"/>
                  </a:lnTo>
                  <a:lnTo>
                    <a:pt x="689" y="568"/>
                  </a:lnTo>
                  <a:lnTo>
                    <a:pt x="690" y="571"/>
                  </a:lnTo>
                  <a:lnTo>
                    <a:pt x="690" y="573"/>
                  </a:lnTo>
                  <a:lnTo>
                    <a:pt x="689" y="575"/>
                  </a:lnTo>
                  <a:lnTo>
                    <a:pt x="689" y="575"/>
                  </a:lnTo>
                  <a:lnTo>
                    <a:pt x="687" y="578"/>
                  </a:lnTo>
                  <a:lnTo>
                    <a:pt x="683" y="578"/>
                  </a:lnTo>
                  <a:lnTo>
                    <a:pt x="683" y="578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7" name="Freeform 85"/>
            <p:cNvSpPr/>
            <p:nvPr/>
          </p:nvSpPr>
          <p:spPr>
            <a:xfrm>
              <a:off x="4788000" y="15825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9" h="13">
                  <a:moveTo>
                    <a:pt x="216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8" y="3"/>
                  </a:lnTo>
                  <a:lnTo>
                    <a:pt x="2169" y="5"/>
                  </a:lnTo>
                  <a:lnTo>
                    <a:pt x="2169" y="7"/>
                  </a:lnTo>
                  <a:lnTo>
                    <a:pt x="2169" y="7"/>
                  </a:lnTo>
                  <a:lnTo>
                    <a:pt x="2169" y="10"/>
                  </a:lnTo>
                  <a:lnTo>
                    <a:pt x="2168" y="12"/>
                  </a:lnTo>
                  <a:lnTo>
                    <a:pt x="2166" y="13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8" name="Freeform 86"/>
            <p:cNvSpPr/>
            <p:nvPr/>
          </p:nvSpPr>
          <p:spPr>
            <a:xfrm>
              <a:off x="6499080" y="1370160"/>
              <a:ext cx="424080" cy="22356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35" h="281">
                  <a:moveTo>
                    <a:pt x="7" y="281"/>
                  </a:moveTo>
                  <a:lnTo>
                    <a:pt x="7" y="281"/>
                  </a:lnTo>
                  <a:lnTo>
                    <a:pt x="4" y="281"/>
                  </a:lnTo>
                  <a:lnTo>
                    <a:pt x="2" y="278"/>
                  </a:lnTo>
                  <a:lnTo>
                    <a:pt x="2" y="278"/>
                  </a:lnTo>
                  <a:lnTo>
                    <a:pt x="0" y="275"/>
                  </a:lnTo>
                  <a:lnTo>
                    <a:pt x="0" y="273"/>
                  </a:lnTo>
                  <a:lnTo>
                    <a:pt x="2" y="271"/>
                  </a:lnTo>
                  <a:lnTo>
                    <a:pt x="4" y="270"/>
                  </a:lnTo>
                  <a:lnTo>
                    <a:pt x="526" y="1"/>
                  </a:lnTo>
                  <a:lnTo>
                    <a:pt x="526" y="1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3" y="1"/>
                  </a:lnTo>
                  <a:lnTo>
                    <a:pt x="535" y="3"/>
                  </a:lnTo>
                  <a:lnTo>
                    <a:pt x="535" y="3"/>
                  </a:lnTo>
                  <a:lnTo>
                    <a:pt x="535" y="6"/>
                  </a:lnTo>
                  <a:lnTo>
                    <a:pt x="535" y="8"/>
                  </a:lnTo>
                  <a:lnTo>
                    <a:pt x="534" y="10"/>
                  </a:lnTo>
                  <a:lnTo>
                    <a:pt x="531" y="13"/>
                  </a:lnTo>
                  <a:lnTo>
                    <a:pt x="10" y="281"/>
                  </a:lnTo>
                  <a:lnTo>
                    <a:pt x="10" y="281"/>
                  </a:lnTo>
                  <a:lnTo>
                    <a:pt x="7" y="281"/>
                  </a:lnTo>
                  <a:lnTo>
                    <a:pt x="7" y="28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49" name="Freeform 87"/>
            <p:cNvSpPr/>
            <p:nvPr/>
          </p:nvSpPr>
          <p:spPr>
            <a:xfrm>
              <a:off x="6499080" y="1582560"/>
              <a:ext cx="424080" cy="22392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529" y="283"/>
                  </a:moveTo>
                  <a:lnTo>
                    <a:pt x="529" y="283"/>
                  </a:lnTo>
                  <a:lnTo>
                    <a:pt x="526" y="28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4" y="271"/>
                  </a:lnTo>
                  <a:lnTo>
                    <a:pt x="535" y="274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3" y="282"/>
                  </a:lnTo>
                  <a:lnTo>
                    <a:pt x="529" y="283"/>
                  </a:lnTo>
                  <a:lnTo>
                    <a:pt x="529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0" name="Freeform 88"/>
            <p:cNvSpPr/>
            <p:nvPr/>
          </p:nvSpPr>
          <p:spPr>
            <a:xfrm>
              <a:off x="4791240" y="2481120"/>
              <a:ext cx="1722240" cy="972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170" h="13">
                  <a:moveTo>
                    <a:pt x="2163" y="13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7" y="2"/>
                  </a:lnTo>
                  <a:lnTo>
                    <a:pt x="2170" y="5"/>
                  </a:lnTo>
                  <a:lnTo>
                    <a:pt x="2170" y="7"/>
                  </a:lnTo>
                  <a:lnTo>
                    <a:pt x="2170" y="7"/>
                  </a:lnTo>
                  <a:lnTo>
                    <a:pt x="2170" y="9"/>
                  </a:lnTo>
                  <a:lnTo>
                    <a:pt x="2167" y="11"/>
                  </a:lnTo>
                  <a:lnTo>
                    <a:pt x="2166" y="13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5640" bIns="-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1" name="Freeform 89"/>
            <p:cNvSpPr/>
            <p:nvPr/>
          </p:nvSpPr>
          <p:spPr>
            <a:xfrm>
              <a:off x="6504120" y="2268360"/>
              <a:ext cx="423720" cy="22248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535" h="282">
                  <a:moveTo>
                    <a:pt x="6" y="282"/>
                  </a:moveTo>
                  <a:lnTo>
                    <a:pt x="6" y="282"/>
                  </a:lnTo>
                  <a:lnTo>
                    <a:pt x="3" y="282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1" y="271"/>
                  </a:lnTo>
                  <a:lnTo>
                    <a:pt x="3" y="270"/>
                  </a:lnTo>
                  <a:lnTo>
                    <a:pt x="525" y="0"/>
                  </a:lnTo>
                  <a:lnTo>
                    <a:pt x="525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6"/>
                  </a:lnTo>
                  <a:lnTo>
                    <a:pt x="535" y="9"/>
                  </a:lnTo>
                  <a:lnTo>
                    <a:pt x="533" y="11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2"/>
                  </a:lnTo>
                  <a:lnTo>
                    <a:pt x="6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2" name="Line 90"/>
            <p:cNvSpPr/>
            <p:nvPr/>
          </p:nvSpPr>
          <p:spPr>
            <a:xfrm>
              <a:off x="6507000" y="2486160"/>
              <a:ext cx="0" cy="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3" name="Line 91"/>
            <p:cNvSpPr/>
            <p:nvPr/>
          </p:nvSpPr>
          <p:spPr>
            <a:xfrm>
              <a:off x="6921360" y="2273400"/>
              <a:ext cx="0" cy="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4" name="Freeform 92"/>
            <p:cNvSpPr/>
            <p:nvPr/>
          </p:nvSpPr>
          <p:spPr>
            <a:xfrm>
              <a:off x="6504120" y="248112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2">
                  <a:moveTo>
                    <a:pt x="528" y="282"/>
                  </a:moveTo>
                  <a:lnTo>
                    <a:pt x="528" y="282"/>
                  </a:lnTo>
                  <a:lnTo>
                    <a:pt x="525" y="28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3" y="271"/>
                  </a:lnTo>
                  <a:lnTo>
                    <a:pt x="535" y="273"/>
                  </a:lnTo>
                  <a:lnTo>
                    <a:pt x="535" y="275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1" y="281"/>
                  </a:lnTo>
                  <a:lnTo>
                    <a:pt x="528" y="282"/>
                  </a:lnTo>
                  <a:lnTo>
                    <a:pt x="528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5" name="Freeform 93"/>
            <p:cNvSpPr/>
            <p:nvPr/>
          </p:nvSpPr>
          <p:spPr>
            <a:xfrm>
              <a:off x="2139840" y="2946240"/>
              <a:ext cx="405000" cy="9255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10" h="1165">
                  <a:moveTo>
                    <a:pt x="503" y="1165"/>
                  </a:moveTo>
                  <a:lnTo>
                    <a:pt x="503" y="1165"/>
                  </a:lnTo>
                  <a:lnTo>
                    <a:pt x="500" y="1164"/>
                  </a:lnTo>
                  <a:lnTo>
                    <a:pt x="497" y="116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509" y="1156"/>
                  </a:lnTo>
                  <a:lnTo>
                    <a:pt x="509" y="1156"/>
                  </a:lnTo>
                  <a:lnTo>
                    <a:pt x="510" y="1158"/>
                  </a:lnTo>
                  <a:lnTo>
                    <a:pt x="509" y="1161"/>
                  </a:lnTo>
                  <a:lnTo>
                    <a:pt x="508" y="1163"/>
                  </a:lnTo>
                  <a:lnTo>
                    <a:pt x="505" y="1165"/>
                  </a:lnTo>
                  <a:lnTo>
                    <a:pt x="505" y="1165"/>
                  </a:lnTo>
                  <a:lnTo>
                    <a:pt x="503" y="1165"/>
                  </a:lnTo>
                  <a:lnTo>
                    <a:pt x="503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6" name="Freeform 94"/>
            <p:cNvSpPr/>
            <p:nvPr/>
          </p:nvSpPr>
          <p:spPr>
            <a:xfrm>
              <a:off x="2533680" y="3860640"/>
              <a:ext cx="1730520" cy="111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80" h="12">
                  <a:moveTo>
                    <a:pt x="2173" y="12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1"/>
                  </a:lnTo>
                  <a:lnTo>
                    <a:pt x="2180" y="3"/>
                  </a:lnTo>
                  <a:lnTo>
                    <a:pt x="2180" y="5"/>
                  </a:lnTo>
                  <a:lnTo>
                    <a:pt x="2180" y="5"/>
                  </a:lnTo>
                  <a:lnTo>
                    <a:pt x="2180" y="9"/>
                  </a:lnTo>
                  <a:lnTo>
                    <a:pt x="2177" y="10"/>
                  </a:lnTo>
                  <a:lnTo>
                    <a:pt x="2176" y="12"/>
                  </a:lnTo>
                  <a:lnTo>
                    <a:pt x="2173" y="12"/>
                  </a:lnTo>
                  <a:lnTo>
                    <a:pt x="2173" y="1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7" name="Freeform 95"/>
            <p:cNvSpPr/>
            <p:nvPr/>
          </p:nvSpPr>
          <p:spPr>
            <a:xfrm>
              <a:off x="4254480" y="3860640"/>
              <a:ext cx="547560" cy="4636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690" h="584">
                  <a:moveTo>
                    <a:pt x="683" y="584"/>
                  </a:moveTo>
                  <a:lnTo>
                    <a:pt x="683" y="584"/>
                  </a:lnTo>
                  <a:lnTo>
                    <a:pt x="681" y="583"/>
                  </a:lnTo>
                  <a:lnTo>
                    <a:pt x="680" y="58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688" y="572"/>
                  </a:lnTo>
                  <a:lnTo>
                    <a:pt x="688" y="572"/>
                  </a:lnTo>
                  <a:lnTo>
                    <a:pt x="689" y="573"/>
                  </a:lnTo>
                  <a:lnTo>
                    <a:pt x="690" y="577"/>
                  </a:lnTo>
                  <a:lnTo>
                    <a:pt x="690" y="579"/>
                  </a:lnTo>
                  <a:lnTo>
                    <a:pt x="689" y="581"/>
                  </a:lnTo>
                  <a:lnTo>
                    <a:pt x="689" y="581"/>
                  </a:lnTo>
                  <a:lnTo>
                    <a:pt x="687" y="583"/>
                  </a:lnTo>
                  <a:lnTo>
                    <a:pt x="683" y="584"/>
                  </a:lnTo>
                  <a:lnTo>
                    <a:pt x="683" y="58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8" name="Freeform 96"/>
            <p:cNvSpPr/>
            <p:nvPr/>
          </p:nvSpPr>
          <p:spPr>
            <a:xfrm>
              <a:off x="4254480" y="3413160"/>
              <a:ext cx="547560" cy="45864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90" h="577">
                  <a:moveTo>
                    <a:pt x="6" y="577"/>
                  </a:moveTo>
                  <a:lnTo>
                    <a:pt x="6" y="577"/>
                  </a:lnTo>
                  <a:lnTo>
                    <a:pt x="4" y="577"/>
                  </a:lnTo>
                  <a:lnTo>
                    <a:pt x="1" y="575"/>
                  </a:lnTo>
                  <a:lnTo>
                    <a:pt x="1" y="575"/>
                  </a:lnTo>
                  <a:lnTo>
                    <a:pt x="0" y="573"/>
                  </a:lnTo>
                  <a:lnTo>
                    <a:pt x="0" y="570"/>
                  </a:lnTo>
                  <a:lnTo>
                    <a:pt x="0" y="568"/>
                  </a:lnTo>
                  <a:lnTo>
                    <a:pt x="2" y="566"/>
                  </a:lnTo>
                  <a:lnTo>
                    <a:pt x="680" y="1"/>
                  </a:lnTo>
                  <a:lnTo>
                    <a:pt x="680" y="1"/>
                  </a:lnTo>
                  <a:lnTo>
                    <a:pt x="682" y="0"/>
                  </a:lnTo>
                  <a:lnTo>
                    <a:pt x="684" y="0"/>
                  </a:lnTo>
                  <a:lnTo>
                    <a:pt x="687" y="0"/>
                  </a:lnTo>
                  <a:lnTo>
                    <a:pt x="689" y="2"/>
                  </a:lnTo>
                  <a:lnTo>
                    <a:pt x="689" y="2"/>
                  </a:lnTo>
                  <a:lnTo>
                    <a:pt x="690" y="5"/>
                  </a:lnTo>
                  <a:lnTo>
                    <a:pt x="690" y="7"/>
                  </a:lnTo>
                  <a:lnTo>
                    <a:pt x="689" y="9"/>
                  </a:lnTo>
                  <a:lnTo>
                    <a:pt x="688" y="12"/>
                  </a:lnTo>
                  <a:lnTo>
                    <a:pt x="10" y="576"/>
                  </a:lnTo>
                  <a:lnTo>
                    <a:pt x="10" y="576"/>
                  </a:lnTo>
                  <a:lnTo>
                    <a:pt x="8" y="577"/>
                  </a:lnTo>
                  <a:lnTo>
                    <a:pt x="6" y="577"/>
                  </a:lnTo>
                  <a:lnTo>
                    <a:pt x="6" y="57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59" name="Freeform 97"/>
            <p:cNvSpPr/>
            <p:nvPr/>
          </p:nvSpPr>
          <p:spPr>
            <a:xfrm>
              <a:off x="4791240" y="43131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70" h="14">
                  <a:moveTo>
                    <a:pt x="2163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1"/>
                  </a:lnTo>
                  <a:lnTo>
                    <a:pt x="2167" y="2"/>
                  </a:lnTo>
                  <a:lnTo>
                    <a:pt x="2170" y="5"/>
                  </a:lnTo>
                  <a:lnTo>
                    <a:pt x="2170" y="7"/>
                  </a:lnTo>
                  <a:lnTo>
                    <a:pt x="2170" y="7"/>
                  </a:lnTo>
                  <a:lnTo>
                    <a:pt x="2170" y="9"/>
                  </a:lnTo>
                  <a:lnTo>
                    <a:pt x="2167" y="11"/>
                  </a:lnTo>
                  <a:lnTo>
                    <a:pt x="2166" y="13"/>
                  </a:lnTo>
                  <a:lnTo>
                    <a:pt x="2163" y="14"/>
                  </a:lnTo>
                  <a:lnTo>
                    <a:pt x="2163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0" name="Freeform 98"/>
            <p:cNvSpPr/>
            <p:nvPr/>
          </p:nvSpPr>
          <p:spPr>
            <a:xfrm>
              <a:off x="6504120" y="4313160"/>
              <a:ext cx="423720" cy="2253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35" h="282">
                  <a:moveTo>
                    <a:pt x="528" y="282"/>
                  </a:moveTo>
                  <a:lnTo>
                    <a:pt x="528" y="282"/>
                  </a:lnTo>
                  <a:lnTo>
                    <a:pt x="525" y="28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3" y="272"/>
                  </a:lnTo>
                  <a:lnTo>
                    <a:pt x="535" y="273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1" y="281"/>
                  </a:lnTo>
                  <a:lnTo>
                    <a:pt x="528" y="282"/>
                  </a:lnTo>
                  <a:lnTo>
                    <a:pt x="528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1" name="Freeform 99"/>
            <p:cNvSpPr/>
            <p:nvPr/>
          </p:nvSpPr>
          <p:spPr>
            <a:xfrm>
              <a:off x="6504120" y="410040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6" y="283"/>
                  </a:moveTo>
                  <a:lnTo>
                    <a:pt x="6" y="283"/>
                  </a:lnTo>
                  <a:lnTo>
                    <a:pt x="3" y="282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1" y="271"/>
                  </a:lnTo>
                  <a:lnTo>
                    <a:pt x="3" y="270"/>
                  </a:lnTo>
                  <a:lnTo>
                    <a:pt x="525" y="2"/>
                  </a:lnTo>
                  <a:lnTo>
                    <a:pt x="525" y="2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6"/>
                  </a:lnTo>
                  <a:lnTo>
                    <a:pt x="535" y="10"/>
                  </a:lnTo>
                  <a:lnTo>
                    <a:pt x="533" y="12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3"/>
                  </a:lnTo>
                  <a:lnTo>
                    <a:pt x="6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2" name="Freeform 100"/>
            <p:cNvSpPr/>
            <p:nvPr/>
          </p:nvSpPr>
          <p:spPr>
            <a:xfrm>
              <a:off x="4791240" y="3413160"/>
              <a:ext cx="1722240" cy="93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70" h="13">
                  <a:moveTo>
                    <a:pt x="2163" y="13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7" y="1"/>
                  </a:lnTo>
                  <a:lnTo>
                    <a:pt x="2170" y="3"/>
                  </a:lnTo>
                  <a:lnTo>
                    <a:pt x="2170" y="6"/>
                  </a:lnTo>
                  <a:lnTo>
                    <a:pt x="2170" y="6"/>
                  </a:lnTo>
                  <a:lnTo>
                    <a:pt x="2170" y="8"/>
                  </a:lnTo>
                  <a:lnTo>
                    <a:pt x="2167" y="10"/>
                  </a:lnTo>
                  <a:lnTo>
                    <a:pt x="2166" y="12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3" name="Freeform 101"/>
            <p:cNvSpPr/>
            <p:nvPr/>
          </p:nvSpPr>
          <p:spPr>
            <a:xfrm>
              <a:off x="6504120" y="341316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1">
                  <a:moveTo>
                    <a:pt x="528" y="281"/>
                  </a:moveTo>
                  <a:lnTo>
                    <a:pt x="528" y="281"/>
                  </a:lnTo>
                  <a:lnTo>
                    <a:pt x="525" y="28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531" y="268"/>
                  </a:lnTo>
                  <a:lnTo>
                    <a:pt x="531" y="268"/>
                  </a:lnTo>
                  <a:lnTo>
                    <a:pt x="533" y="271"/>
                  </a:lnTo>
                  <a:lnTo>
                    <a:pt x="535" y="273"/>
                  </a:lnTo>
                  <a:lnTo>
                    <a:pt x="535" y="275"/>
                  </a:lnTo>
                  <a:lnTo>
                    <a:pt x="535" y="278"/>
                  </a:lnTo>
                  <a:lnTo>
                    <a:pt x="535" y="278"/>
                  </a:lnTo>
                  <a:lnTo>
                    <a:pt x="531" y="280"/>
                  </a:lnTo>
                  <a:lnTo>
                    <a:pt x="528" y="281"/>
                  </a:lnTo>
                  <a:lnTo>
                    <a:pt x="528" y="28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4" name="Freeform 102"/>
            <p:cNvSpPr/>
            <p:nvPr/>
          </p:nvSpPr>
          <p:spPr>
            <a:xfrm>
              <a:off x="6504120" y="3198960"/>
              <a:ext cx="423720" cy="223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35" h="283">
                  <a:moveTo>
                    <a:pt x="6" y="283"/>
                  </a:moveTo>
                  <a:lnTo>
                    <a:pt x="6" y="283"/>
                  </a:lnTo>
                  <a:lnTo>
                    <a:pt x="3" y="282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0" y="277"/>
                  </a:lnTo>
                  <a:lnTo>
                    <a:pt x="0" y="273"/>
                  </a:lnTo>
                  <a:lnTo>
                    <a:pt x="1" y="272"/>
                  </a:lnTo>
                  <a:lnTo>
                    <a:pt x="3" y="270"/>
                  </a:lnTo>
                  <a:lnTo>
                    <a:pt x="525" y="2"/>
                  </a:lnTo>
                  <a:lnTo>
                    <a:pt x="525" y="2"/>
                  </a:lnTo>
                  <a:lnTo>
                    <a:pt x="528" y="0"/>
                  </a:lnTo>
                  <a:lnTo>
                    <a:pt x="530" y="2"/>
                  </a:lnTo>
                  <a:lnTo>
                    <a:pt x="532" y="3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7"/>
                  </a:lnTo>
                  <a:lnTo>
                    <a:pt x="535" y="10"/>
                  </a:lnTo>
                  <a:lnTo>
                    <a:pt x="533" y="12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3"/>
                  </a:lnTo>
                  <a:lnTo>
                    <a:pt x="6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5" name="Rectangle 103"/>
            <p:cNvSpPr/>
            <p:nvPr/>
          </p:nvSpPr>
          <p:spPr>
            <a:xfrm>
              <a:off x="2608200" y="1851120"/>
              <a:ext cx="1581120" cy="37440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6" name="Rectangle 104"/>
            <p:cNvSpPr/>
            <p:nvPr/>
          </p:nvSpPr>
          <p:spPr>
            <a:xfrm>
              <a:off x="4859280" y="1401840"/>
              <a:ext cx="1579680" cy="3729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7" name="Rectangle 105"/>
            <p:cNvSpPr/>
            <p:nvPr/>
          </p:nvSpPr>
          <p:spPr>
            <a:xfrm>
              <a:off x="4859280" y="2305080"/>
              <a:ext cx="157968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8" name="Rectangle 106"/>
            <p:cNvSpPr/>
            <p:nvPr/>
          </p:nvSpPr>
          <p:spPr>
            <a:xfrm>
              <a:off x="4859280" y="3228840"/>
              <a:ext cx="1579680" cy="37332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69" name="Rectangle 107"/>
            <p:cNvSpPr/>
            <p:nvPr/>
          </p:nvSpPr>
          <p:spPr>
            <a:xfrm>
              <a:off x="4859280" y="4130640"/>
              <a:ext cx="157968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0" name="Rectangle 108"/>
            <p:cNvSpPr/>
            <p:nvPr/>
          </p:nvSpPr>
          <p:spPr>
            <a:xfrm>
              <a:off x="2608200" y="3679920"/>
              <a:ext cx="158112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1" name="Freeform 109"/>
            <p:cNvSpPr/>
            <p:nvPr/>
          </p:nvSpPr>
          <p:spPr>
            <a:xfrm>
              <a:off x="2038320" y="20145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7" h="135">
                  <a:moveTo>
                    <a:pt x="57" y="82"/>
                  </a:moveTo>
                  <a:lnTo>
                    <a:pt x="57" y="132"/>
                  </a:lnTo>
                  <a:lnTo>
                    <a:pt x="57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4" y="7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2" name="Freeform 110"/>
            <p:cNvSpPr/>
            <p:nvPr/>
          </p:nvSpPr>
          <p:spPr>
            <a:xfrm>
              <a:off x="2112840" y="204156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4" y="50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9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71" y="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4" y="35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5" y="25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3" name="Freeform 111"/>
            <p:cNvSpPr/>
            <p:nvPr/>
          </p:nvSpPr>
          <p:spPr>
            <a:xfrm>
              <a:off x="2195640" y="204156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4" y="79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49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1" y="99"/>
                  </a:lnTo>
                  <a:lnTo>
                    <a:pt x="11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8" y="77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2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4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4" name="Freeform 112"/>
            <p:cNvSpPr/>
            <p:nvPr/>
          </p:nvSpPr>
          <p:spPr>
            <a:xfrm>
              <a:off x="4319640" y="148284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6" h="133">
                  <a:moveTo>
                    <a:pt x="56" y="82"/>
                  </a:moveTo>
                  <a:lnTo>
                    <a:pt x="56" y="130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4" y="133"/>
                  </a:lnTo>
                  <a:lnTo>
                    <a:pt x="54" y="133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4" y="133"/>
                  </a:lnTo>
                  <a:lnTo>
                    <a:pt x="44" y="133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0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1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3"/>
                  </a:lnTo>
                  <a:lnTo>
                    <a:pt x="96" y="3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5" name="Freeform 113"/>
            <p:cNvSpPr/>
            <p:nvPr/>
          </p:nvSpPr>
          <p:spPr>
            <a:xfrm>
              <a:off x="4394160" y="150984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2" y="74"/>
                  </a:lnTo>
                  <a:lnTo>
                    <a:pt x="25" y="80"/>
                  </a:lnTo>
                  <a:lnTo>
                    <a:pt x="25" y="80"/>
                  </a:lnTo>
                  <a:lnTo>
                    <a:pt x="29" y="83"/>
                  </a:lnTo>
                  <a:lnTo>
                    <a:pt x="34" y="85"/>
                  </a:lnTo>
                  <a:lnTo>
                    <a:pt x="34" y="85"/>
                  </a:lnTo>
                  <a:lnTo>
                    <a:pt x="41" y="88"/>
                  </a:lnTo>
                  <a:lnTo>
                    <a:pt x="49" y="88"/>
                  </a:lnTo>
                  <a:lnTo>
                    <a:pt x="49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9" y="84"/>
                  </a:lnTo>
                  <a:lnTo>
                    <a:pt x="69" y="84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5"/>
                  </a:lnTo>
                  <a:lnTo>
                    <a:pt x="80" y="95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2"/>
                  </a:lnTo>
                  <a:lnTo>
                    <a:pt x="59" y="102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2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1" y="8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81" y="20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7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6" name="Freeform 114"/>
            <p:cNvSpPr/>
            <p:nvPr/>
          </p:nvSpPr>
          <p:spPr>
            <a:xfrm>
              <a:off x="4476600" y="1509840"/>
              <a:ext cx="51120" cy="792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3"/>
                  </a:moveTo>
                  <a:lnTo>
                    <a:pt x="66" y="73"/>
                  </a:lnTo>
                  <a:lnTo>
                    <a:pt x="65" y="78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2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8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3"/>
                  </a:lnTo>
                  <a:lnTo>
                    <a:pt x="66" y="7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7" name="Freeform 115"/>
            <p:cNvSpPr/>
            <p:nvPr/>
          </p:nvSpPr>
          <p:spPr>
            <a:xfrm>
              <a:off x="6524640" y="127800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5" h="134">
                  <a:moveTo>
                    <a:pt x="56" y="83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4"/>
                  </a:lnTo>
                  <a:lnTo>
                    <a:pt x="51" y="134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3" y="134"/>
                  </a:lnTo>
                  <a:lnTo>
                    <a:pt x="43" y="134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3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8" name="Freeform 116"/>
            <p:cNvSpPr/>
            <p:nvPr/>
          </p:nvSpPr>
          <p:spPr>
            <a:xfrm>
              <a:off x="6599160" y="130500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7"/>
                  </a:moveTo>
                  <a:lnTo>
                    <a:pt x="84" y="47"/>
                  </a:lnTo>
                  <a:lnTo>
                    <a:pt x="84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2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7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79" name="Freeform 117"/>
            <p:cNvSpPr/>
            <p:nvPr/>
          </p:nvSpPr>
          <p:spPr>
            <a:xfrm>
              <a:off x="6680160" y="1305000"/>
              <a:ext cx="52560" cy="81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0" y="97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7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0" name="Freeform 118"/>
            <p:cNvSpPr/>
            <p:nvPr/>
          </p:nvSpPr>
          <p:spPr>
            <a:xfrm>
              <a:off x="2060640" y="376092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5"/>
                  </a:moveTo>
                  <a:lnTo>
                    <a:pt x="100" y="125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5" y="132"/>
                  </a:lnTo>
                  <a:lnTo>
                    <a:pt x="95" y="132"/>
                  </a:lnTo>
                  <a:lnTo>
                    <a:pt x="92" y="134"/>
                  </a:lnTo>
                  <a:lnTo>
                    <a:pt x="86" y="134"/>
                  </a:lnTo>
                  <a:lnTo>
                    <a:pt x="86" y="134"/>
                  </a:lnTo>
                  <a:lnTo>
                    <a:pt x="81" y="132"/>
                  </a:lnTo>
                  <a:lnTo>
                    <a:pt x="81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3" y="127"/>
                  </a:lnTo>
                  <a:lnTo>
                    <a:pt x="73" y="127"/>
                  </a:lnTo>
                  <a:lnTo>
                    <a:pt x="70" y="12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49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2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1" name="Freeform 119"/>
            <p:cNvSpPr/>
            <p:nvPr/>
          </p:nvSpPr>
          <p:spPr>
            <a:xfrm>
              <a:off x="2162160" y="3787920"/>
              <a:ext cx="73080" cy="7920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50"/>
                  </a:moveTo>
                  <a:lnTo>
                    <a:pt x="93" y="50"/>
                  </a:lnTo>
                  <a:lnTo>
                    <a:pt x="91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80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4" y="94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6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5" y="101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6" y="81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75" y="7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1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7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8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3" y="87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4" y="82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2" name="Freeform 120"/>
            <p:cNvSpPr/>
            <p:nvPr/>
          </p:nvSpPr>
          <p:spPr>
            <a:xfrm>
              <a:off x="4341960" y="2381400"/>
              <a:ext cx="80640" cy="104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6"/>
                  </a:moveTo>
                  <a:lnTo>
                    <a:pt x="101" y="126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0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51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2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1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4"/>
                  </a:lnTo>
                  <a:lnTo>
                    <a:pt x="101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3" name="Freeform 121"/>
            <p:cNvSpPr/>
            <p:nvPr/>
          </p:nvSpPr>
          <p:spPr>
            <a:xfrm>
              <a:off x="4443480" y="240660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1">
                  <a:moveTo>
                    <a:pt x="92" y="49"/>
                  </a:moveTo>
                  <a:lnTo>
                    <a:pt x="92" y="49"/>
                  </a:lnTo>
                  <a:lnTo>
                    <a:pt x="92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79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73" y="93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44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4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5" y="81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74" y="8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2" y="39"/>
                  </a:lnTo>
                  <a:lnTo>
                    <a:pt x="92" y="49"/>
                  </a:lnTo>
                  <a:lnTo>
                    <a:pt x="92" y="49"/>
                  </a:lnTo>
                  <a:close/>
                  <a:moveTo>
                    <a:pt x="74" y="50"/>
                  </a:moveTo>
                  <a:lnTo>
                    <a:pt x="74" y="50"/>
                  </a:lnTo>
                  <a:lnTo>
                    <a:pt x="74" y="43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1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5" y="2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4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39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1" y="30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42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0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7" y="80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4" y="58"/>
                  </a:lnTo>
                  <a:lnTo>
                    <a:pt x="74" y="50"/>
                  </a:lnTo>
                  <a:lnTo>
                    <a:pt x="74" y="5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4" name="Freeform 122"/>
            <p:cNvSpPr/>
            <p:nvPr/>
          </p:nvSpPr>
          <p:spPr>
            <a:xfrm>
              <a:off x="6558120" y="1774800"/>
              <a:ext cx="79200" cy="106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6"/>
                  </a:moveTo>
                  <a:lnTo>
                    <a:pt x="100" y="126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2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5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1" y="1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4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5" name="Freeform 123"/>
            <p:cNvSpPr/>
            <p:nvPr/>
          </p:nvSpPr>
          <p:spPr>
            <a:xfrm>
              <a:off x="6657840" y="1801800"/>
              <a:ext cx="74880" cy="810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49"/>
                  </a:moveTo>
                  <a:lnTo>
                    <a:pt x="93" y="49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6" y="79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49"/>
                  </a:lnTo>
                  <a:lnTo>
                    <a:pt x="93" y="49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2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6" name="Freeform 124"/>
            <p:cNvSpPr/>
            <p:nvPr/>
          </p:nvSpPr>
          <p:spPr>
            <a:xfrm>
              <a:off x="6524640" y="21733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2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7" name="Freeform 125"/>
            <p:cNvSpPr/>
            <p:nvPr/>
          </p:nvSpPr>
          <p:spPr>
            <a:xfrm>
              <a:off x="6599160" y="2201760"/>
              <a:ext cx="66600" cy="79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6"/>
                  </a:moveTo>
                  <a:lnTo>
                    <a:pt x="84" y="46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1" y="53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2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9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3"/>
                  </a:lnTo>
                  <a:lnTo>
                    <a:pt x="79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0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6" y="2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19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6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5"/>
                  </a:lnTo>
                  <a:lnTo>
                    <a:pt x="66" y="30"/>
                  </a:lnTo>
                  <a:lnTo>
                    <a:pt x="64" y="25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8"/>
                  </a:lnTo>
                  <a:lnTo>
                    <a:pt x="54" y="15"/>
                  </a:lnTo>
                  <a:lnTo>
                    <a:pt x="48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8" name="Freeform 126"/>
            <p:cNvSpPr/>
            <p:nvPr/>
          </p:nvSpPr>
          <p:spPr>
            <a:xfrm>
              <a:off x="6680160" y="220176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38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6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3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89" name="Freeform 127"/>
            <p:cNvSpPr/>
            <p:nvPr/>
          </p:nvSpPr>
          <p:spPr>
            <a:xfrm>
              <a:off x="6558120" y="267192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3">
                  <a:moveTo>
                    <a:pt x="100" y="125"/>
                  </a:moveTo>
                  <a:lnTo>
                    <a:pt x="100" y="125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6" y="132"/>
                  </a:lnTo>
                  <a:lnTo>
                    <a:pt x="96" y="132"/>
                  </a:lnTo>
                  <a:lnTo>
                    <a:pt x="92" y="133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0" y="119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49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4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2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0" name="Freeform 128"/>
            <p:cNvSpPr/>
            <p:nvPr/>
          </p:nvSpPr>
          <p:spPr>
            <a:xfrm>
              <a:off x="6657840" y="2698920"/>
              <a:ext cx="74880" cy="79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80"/>
                  </a:lnTo>
                  <a:lnTo>
                    <a:pt x="81" y="86"/>
                  </a:lnTo>
                  <a:lnTo>
                    <a:pt x="81" y="86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0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0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8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1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7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0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6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1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1" name="Freeform 129"/>
            <p:cNvSpPr/>
            <p:nvPr/>
          </p:nvSpPr>
          <p:spPr>
            <a:xfrm>
              <a:off x="6524640" y="310824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3"/>
                  </a:moveTo>
                  <a:lnTo>
                    <a:pt x="56" y="132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39" y="134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39" y="83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3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5" y="4"/>
                  </a:lnTo>
                  <a:lnTo>
                    <a:pt x="94" y="7"/>
                  </a:lnTo>
                  <a:lnTo>
                    <a:pt x="56" y="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2" name="Freeform 130"/>
            <p:cNvSpPr/>
            <p:nvPr/>
          </p:nvSpPr>
          <p:spPr>
            <a:xfrm>
              <a:off x="6599160" y="313524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4" h="101">
                  <a:moveTo>
                    <a:pt x="84" y="47"/>
                  </a:moveTo>
                  <a:lnTo>
                    <a:pt x="84" y="47"/>
                  </a:lnTo>
                  <a:lnTo>
                    <a:pt x="84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7"/>
                  </a:lnTo>
                  <a:lnTo>
                    <a:pt x="47" y="87"/>
                  </a:lnTo>
                  <a:lnTo>
                    <a:pt x="47" y="87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3"/>
                  </a:lnTo>
                  <a:lnTo>
                    <a:pt x="79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9"/>
                  </a:lnTo>
                  <a:lnTo>
                    <a:pt x="68" y="99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5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4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9" y="8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19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4" y="34"/>
                  </a:lnTo>
                  <a:lnTo>
                    <a:pt x="84" y="44"/>
                  </a:lnTo>
                  <a:lnTo>
                    <a:pt x="84" y="47"/>
                  </a:lnTo>
                  <a:close/>
                  <a:moveTo>
                    <a:pt x="68" y="41"/>
                  </a:moveTo>
                  <a:lnTo>
                    <a:pt x="68" y="41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5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7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3" name="Freeform 131"/>
            <p:cNvSpPr/>
            <p:nvPr/>
          </p:nvSpPr>
          <p:spPr>
            <a:xfrm>
              <a:off x="6680160" y="3135240"/>
              <a:ext cx="52560" cy="81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5" h="101">
                  <a:moveTo>
                    <a:pt x="65" y="71"/>
                  </a:moveTo>
                  <a:lnTo>
                    <a:pt x="65" y="71"/>
                  </a:lnTo>
                  <a:lnTo>
                    <a:pt x="65" y="78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1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9" y="86"/>
                  </a:lnTo>
                  <a:lnTo>
                    <a:pt x="19" y="86"/>
                  </a:lnTo>
                  <a:lnTo>
                    <a:pt x="24" y="87"/>
                  </a:lnTo>
                  <a:lnTo>
                    <a:pt x="29" y="87"/>
                  </a:lnTo>
                  <a:lnTo>
                    <a:pt x="29" y="87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3"/>
                  </a:lnTo>
                  <a:lnTo>
                    <a:pt x="48" y="79"/>
                  </a:lnTo>
                  <a:lnTo>
                    <a:pt x="48" y="79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5" y="67"/>
                  </a:lnTo>
                  <a:lnTo>
                    <a:pt x="65" y="71"/>
                  </a:lnTo>
                  <a:lnTo>
                    <a:pt x="65" y="7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4" name="Freeform 132"/>
            <p:cNvSpPr/>
            <p:nvPr/>
          </p:nvSpPr>
          <p:spPr>
            <a:xfrm>
              <a:off x="6558120" y="3606840"/>
              <a:ext cx="79200" cy="104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6"/>
                  </a:moveTo>
                  <a:lnTo>
                    <a:pt x="100" y="126"/>
                  </a:lnTo>
                  <a:lnTo>
                    <a:pt x="99" y="130"/>
                  </a:lnTo>
                  <a:lnTo>
                    <a:pt x="99" y="130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2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5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1" y="12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4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5" name="Freeform 133"/>
            <p:cNvSpPr/>
            <p:nvPr/>
          </p:nvSpPr>
          <p:spPr>
            <a:xfrm>
              <a:off x="6657840" y="3632040"/>
              <a:ext cx="74880" cy="828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6" y="79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7" y="97"/>
                  </a:lnTo>
                  <a:lnTo>
                    <a:pt x="67" y="97"/>
                  </a:lnTo>
                  <a:lnTo>
                    <a:pt x="56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7" y="81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1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6" y="20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3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43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1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7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1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2"/>
                  </a:lnTo>
                  <a:lnTo>
                    <a:pt x="74" y="65"/>
                  </a:lnTo>
                  <a:lnTo>
                    <a:pt x="74" y="65"/>
                  </a:lnTo>
                  <a:lnTo>
                    <a:pt x="75" y="58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440" bIns="374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6" name="Freeform 134"/>
            <p:cNvSpPr/>
            <p:nvPr/>
          </p:nvSpPr>
          <p:spPr>
            <a:xfrm>
              <a:off x="6524640" y="39639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2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7" name="Freeform 135"/>
            <p:cNvSpPr/>
            <p:nvPr/>
          </p:nvSpPr>
          <p:spPr>
            <a:xfrm>
              <a:off x="6599160" y="3992400"/>
              <a:ext cx="66600" cy="79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6"/>
                  </a:moveTo>
                  <a:lnTo>
                    <a:pt x="84" y="46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1" y="55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6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8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8" name="Freeform 136"/>
            <p:cNvSpPr/>
            <p:nvPr/>
          </p:nvSpPr>
          <p:spPr>
            <a:xfrm>
              <a:off x="6680160" y="399240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8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99" name="Freeform 137"/>
            <p:cNvSpPr/>
            <p:nvPr/>
          </p:nvSpPr>
          <p:spPr>
            <a:xfrm>
              <a:off x="6558120" y="446256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3">
                  <a:moveTo>
                    <a:pt x="100" y="125"/>
                  </a:moveTo>
                  <a:lnTo>
                    <a:pt x="100" y="125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2" y="133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0" y="119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50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3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0" name="Freeform 138"/>
            <p:cNvSpPr/>
            <p:nvPr/>
          </p:nvSpPr>
          <p:spPr>
            <a:xfrm>
              <a:off x="6657840" y="4489560"/>
              <a:ext cx="74880" cy="79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80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3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1" name="Freeform 139"/>
            <p:cNvSpPr/>
            <p:nvPr/>
          </p:nvSpPr>
          <p:spPr>
            <a:xfrm>
              <a:off x="4319640" y="33433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6" h="135">
                  <a:moveTo>
                    <a:pt x="56" y="82"/>
                  </a:moveTo>
                  <a:lnTo>
                    <a:pt x="56" y="132"/>
                  </a:lnTo>
                  <a:lnTo>
                    <a:pt x="56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47" y="135"/>
                  </a:lnTo>
                  <a:lnTo>
                    <a:pt x="47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9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2" name="Freeform 140"/>
            <p:cNvSpPr/>
            <p:nvPr/>
          </p:nvSpPr>
          <p:spPr>
            <a:xfrm>
              <a:off x="4394160" y="337032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29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9" y="85"/>
                  </a:lnTo>
                  <a:lnTo>
                    <a:pt x="69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71" y="8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3"/>
                  </a:moveTo>
                  <a:lnTo>
                    <a:pt x="68" y="43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8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68" y="4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3" name="Freeform 141"/>
            <p:cNvSpPr/>
            <p:nvPr/>
          </p:nvSpPr>
          <p:spPr>
            <a:xfrm>
              <a:off x="4476600" y="3370320"/>
              <a:ext cx="51120" cy="81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4" name="Freeform 142"/>
            <p:cNvSpPr/>
            <p:nvPr/>
          </p:nvSpPr>
          <p:spPr>
            <a:xfrm>
              <a:off x="4341960" y="4241880"/>
              <a:ext cx="80640" cy="106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7"/>
                  </a:moveTo>
                  <a:lnTo>
                    <a:pt x="101" y="127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51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1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3" y="109"/>
                  </a:lnTo>
                  <a:lnTo>
                    <a:pt x="84" y="109"/>
                  </a:lnTo>
                  <a:lnTo>
                    <a:pt x="84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6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3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05" name="Freeform 143"/>
            <p:cNvSpPr/>
            <p:nvPr/>
          </p:nvSpPr>
          <p:spPr>
            <a:xfrm>
              <a:off x="4443480" y="426888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3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89" y="72"/>
                  </a:lnTo>
                  <a:lnTo>
                    <a:pt x="89" y="72"/>
                  </a:lnTo>
                  <a:lnTo>
                    <a:pt x="86" y="80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73" y="9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2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34" y="102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5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6" y="21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92" y="40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4" y="52"/>
                  </a:moveTo>
                  <a:lnTo>
                    <a:pt x="74" y="52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1" y="31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5" y="2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4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39" y="15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8" y="59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0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7" y="82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9" y="88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64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3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4" y="52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8630-C4D1-48FB-95EF-7F55C50156CD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714240" y="1941480"/>
            <a:ext cx="7715520" cy="1998720"/>
            <a:chOff x="714240" y="1941480"/>
            <a:chExt cx="7715520" cy="1998720"/>
          </a:xfrm>
        </p:grpSpPr>
        <p:sp>
          <p:nvSpPr>
            <p:cNvPr id="148" name="Freeform 7"/>
            <p:cNvSpPr/>
            <p:nvPr/>
          </p:nvSpPr>
          <p:spPr>
            <a:xfrm>
              <a:off x="1720800" y="32209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7" h="135">
                  <a:moveTo>
                    <a:pt x="58" y="82"/>
                  </a:moveTo>
                  <a:lnTo>
                    <a:pt x="58" y="132"/>
                  </a:lnTo>
                  <a:lnTo>
                    <a:pt x="58" y="132"/>
                  </a:lnTo>
                  <a:lnTo>
                    <a:pt x="57" y="133"/>
                  </a:lnTo>
                  <a:lnTo>
                    <a:pt x="57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43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5" y="7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1795320" y="324792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5" h="102">
                  <a:moveTo>
                    <a:pt x="85" y="47"/>
                  </a:moveTo>
                  <a:lnTo>
                    <a:pt x="85" y="47"/>
                  </a:lnTo>
                  <a:lnTo>
                    <a:pt x="84" y="51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2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40" y="87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3"/>
                  </a:lnTo>
                  <a:lnTo>
                    <a:pt x="80" y="83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0" y="93"/>
                  </a:lnTo>
                  <a:lnTo>
                    <a:pt x="80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6" y="99"/>
                  </a:lnTo>
                  <a:lnTo>
                    <a:pt x="26" y="99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11" y="90"/>
                  </a:lnTo>
                  <a:lnTo>
                    <a:pt x="6" y="83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4" y="1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70" y="8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79" y="19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6"/>
                  </a:lnTo>
                  <a:lnTo>
                    <a:pt x="85" y="45"/>
                  </a:lnTo>
                  <a:lnTo>
                    <a:pt x="85" y="47"/>
                  </a:lnTo>
                  <a:close/>
                  <a:moveTo>
                    <a:pt x="67" y="42"/>
                  </a:moveTo>
                  <a:lnTo>
                    <a:pt x="67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5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8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7"/>
                  </a:lnTo>
                  <a:lnTo>
                    <a:pt x="17" y="42"/>
                  </a:lnTo>
                  <a:lnTo>
                    <a:pt x="67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1878120" y="324792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0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29" y="89"/>
                  </a:lnTo>
                  <a:lnTo>
                    <a:pt x="29" y="89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9" y="70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1" y="59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5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3211560" y="3220920"/>
              <a:ext cx="81000" cy="10800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0" h="135">
                  <a:moveTo>
                    <a:pt x="100" y="127"/>
                  </a:moveTo>
                  <a:lnTo>
                    <a:pt x="100" y="127"/>
                  </a:lnTo>
                  <a:lnTo>
                    <a:pt x="100" y="131"/>
                  </a:lnTo>
                  <a:lnTo>
                    <a:pt x="100" y="131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3" y="134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5" y="128"/>
                  </a:lnTo>
                  <a:lnTo>
                    <a:pt x="75" y="128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51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9" y="135"/>
                  </a:lnTo>
                  <a:lnTo>
                    <a:pt x="9" y="135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1" y="12"/>
                  </a:lnTo>
                  <a:lnTo>
                    <a:pt x="62" y="71"/>
                  </a:lnTo>
                  <a:lnTo>
                    <a:pt x="62" y="71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74" y="90"/>
                  </a:lnTo>
                  <a:lnTo>
                    <a:pt x="74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4"/>
                  </a:lnTo>
                  <a:lnTo>
                    <a:pt x="83" y="94"/>
                  </a:lnTo>
                  <a:lnTo>
                    <a:pt x="83" y="7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4"/>
                  </a:lnTo>
                  <a:lnTo>
                    <a:pt x="100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3313080" y="3247920"/>
              <a:ext cx="74520" cy="81000"/>
            </a:xfrm>
            <a:custGeom>
              <a:avLst/>
              <a:gdLst>
                <a:gd name="textAreaLeft" fmla="*/ 0 w 74520"/>
                <a:gd name="textAreaRight" fmla="*/ 74520 w 74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2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5" y="80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74" y="93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6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7" y="23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75" y="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6" y="21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2" y="39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5" y="52"/>
                  </a:moveTo>
                  <a:lnTo>
                    <a:pt x="75" y="52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1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4" y="21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4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39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7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59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1" y="71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27" y="82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8" y="87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7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64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2"/>
                  </a:lnTo>
                  <a:lnTo>
                    <a:pt x="74" y="67"/>
                  </a:lnTo>
                  <a:lnTo>
                    <a:pt x="74" y="67"/>
                  </a:lnTo>
                  <a:lnTo>
                    <a:pt x="75" y="59"/>
                  </a:lnTo>
                  <a:lnTo>
                    <a:pt x="75" y="52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5748480" y="3220920"/>
              <a:ext cx="75960" cy="1080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6" h="135">
                  <a:moveTo>
                    <a:pt x="57" y="82"/>
                  </a:moveTo>
                  <a:lnTo>
                    <a:pt x="57" y="132"/>
                  </a:lnTo>
                  <a:lnTo>
                    <a:pt x="57" y="132"/>
                  </a:lnTo>
                  <a:lnTo>
                    <a:pt x="57" y="133"/>
                  </a:lnTo>
                  <a:lnTo>
                    <a:pt x="57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40" y="132"/>
                  </a:lnTo>
                  <a:lnTo>
                    <a:pt x="40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3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5" y="7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5821200" y="324792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5" h="102">
                  <a:moveTo>
                    <a:pt x="85" y="47"/>
                  </a:moveTo>
                  <a:lnTo>
                    <a:pt x="85" y="47"/>
                  </a:lnTo>
                  <a:lnTo>
                    <a:pt x="85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9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40" y="87"/>
                  </a:lnTo>
                  <a:lnTo>
                    <a:pt x="48" y="89"/>
                  </a:lnTo>
                  <a:lnTo>
                    <a:pt x="48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9" y="85"/>
                  </a:lnTo>
                  <a:lnTo>
                    <a:pt x="69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3"/>
                  </a:lnTo>
                  <a:lnTo>
                    <a:pt x="80" y="83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0" y="93"/>
                  </a:lnTo>
                  <a:lnTo>
                    <a:pt x="80" y="93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6" y="99"/>
                  </a:lnTo>
                  <a:lnTo>
                    <a:pt x="26" y="99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11" y="90"/>
                  </a:lnTo>
                  <a:lnTo>
                    <a:pt x="7" y="83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4" y="1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9" y="1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4" y="25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8" y="37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5904000" y="324792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0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5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7" y="83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9" y="70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" y="42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0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2" y="59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65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7238880" y="3220920"/>
              <a:ext cx="79560" cy="10800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2" h="135">
                  <a:moveTo>
                    <a:pt x="102" y="127"/>
                  </a:moveTo>
                  <a:lnTo>
                    <a:pt x="102" y="127"/>
                  </a:lnTo>
                  <a:lnTo>
                    <a:pt x="100" y="131"/>
                  </a:lnTo>
                  <a:lnTo>
                    <a:pt x="100" y="131"/>
                  </a:lnTo>
                  <a:lnTo>
                    <a:pt x="99" y="133"/>
                  </a:lnTo>
                  <a:lnTo>
                    <a:pt x="99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4" y="134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9" y="132"/>
                  </a:lnTo>
                  <a:lnTo>
                    <a:pt x="79" y="132"/>
                  </a:lnTo>
                  <a:lnTo>
                    <a:pt x="75" y="128"/>
                  </a:lnTo>
                  <a:lnTo>
                    <a:pt x="75" y="128"/>
                  </a:lnTo>
                  <a:lnTo>
                    <a:pt x="72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51"/>
                  </a:lnTo>
                  <a:lnTo>
                    <a:pt x="19" y="132"/>
                  </a:lnTo>
                  <a:lnTo>
                    <a:pt x="19" y="132"/>
                  </a:lnTo>
                  <a:lnTo>
                    <a:pt x="18" y="133"/>
                  </a:lnTo>
                  <a:lnTo>
                    <a:pt x="18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5"/>
                  </a:lnTo>
                  <a:lnTo>
                    <a:pt x="9" y="135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3" y="134"/>
                  </a:lnTo>
                  <a:lnTo>
                    <a:pt x="3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2" y="12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4" y="90"/>
                  </a:lnTo>
                  <a:lnTo>
                    <a:pt x="74" y="90"/>
                  </a:lnTo>
                  <a:lnTo>
                    <a:pt x="79" y="101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3" y="94"/>
                  </a:lnTo>
                  <a:lnTo>
                    <a:pt x="83" y="94"/>
                  </a:lnTo>
                  <a:lnTo>
                    <a:pt x="83" y="76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2" y="4"/>
                  </a:lnTo>
                  <a:lnTo>
                    <a:pt x="102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7340760" y="3247920"/>
              <a:ext cx="72720" cy="810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2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7" y="80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4" y="93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7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5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4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7" y="2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9" y="9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7" y="21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2" y="39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5" y="52"/>
                  </a:moveTo>
                  <a:lnTo>
                    <a:pt x="75" y="52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4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39" y="15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19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9" y="59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9" y="87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7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65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2" y="72"/>
                  </a:lnTo>
                  <a:lnTo>
                    <a:pt x="74" y="67"/>
                  </a:lnTo>
                  <a:lnTo>
                    <a:pt x="74" y="67"/>
                  </a:lnTo>
                  <a:lnTo>
                    <a:pt x="75" y="59"/>
                  </a:lnTo>
                  <a:lnTo>
                    <a:pt x="75" y="52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 flipH="1">
              <a:off x="2862000" y="2084400"/>
              <a:ext cx="1709640" cy="460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572000" y="1941480"/>
              <a:ext cx="0" cy="83988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257184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H="1">
              <a:off x="173016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2819520" y="3552840"/>
              <a:ext cx="1609560" cy="3873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3" name="Rectangle 22"/>
            <p:cNvSpPr/>
            <p:nvPr/>
          </p:nvSpPr>
          <p:spPr>
            <a:xfrm>
              <a:off x="714240" y="3552840"/>
              <a:ext cx="1608120" cy="3873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4" name="Rectangle 23"/>
            <p:cNvSpPr/>
            <p:nvPr/>
          </p:nvSpPr>
          <p:spPr>
            <a:xfrm>
              <a:off x="1766880" y="2531880"/>
              <a:ext cx="1609560" cy="389160"/>
            </a:xfrm>
            <a:prstGeom prst="rect">
              <a:avLst/>
            </a:prstGeom>
            <a:solidFill>
              <a:srgbClr val="e7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 flipH="1" flipV="1">
              <a:off x="4571640" y="2084040"/>
              <a:ext cx="1709640" cy="460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 flipH="1">
              <a:off x="573048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6572160" y="2819520"/>
              <a:ext cx="841320" cy="76644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8" name="Rectangle 27"/>
            <p:cNvSpPr/>
            <p:nvPr/>
          </p:nvSpPr>
          <p:spPr>
            <a:xfrm>
              <a:off x="4714920" y="3552840"/>
              <a:ext cx="1609560" cy="3873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69" name="Rectangle 28"/>
            <p:cNvSpPr/>
            <p:nvPr/>
          </p:nvSpPr>
          <p:spPr>
            <a:xfrm>
              <a:off x="6821640" y="3552840"/>
              <a:ext cx="1608120" cy="3873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70" name="Rectangle 29"/>
            <p:cNvSpPr/>
            <p:nvPr/>
          </p:nvSpPr>
          <p:spPr>
            <a:xfrm>
              <a:off x="5767560" y="2531880"/>
              <a:ext cx="1609560" cy="389160"/>
            </a:xfrm>
            <a:prstGeom prst="rect">
              <a:avLst/>
            </a:prstGeom>
            <a:solidFill>
              <a:srgbClr val="e7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171" name="Rectangle 30"/>
            <p:cNvSpPr/>
            <p:nvPr/>
          </p:nvSpPr>
          <p:spPr>
            <a:xfrm>
              <a:off x="3767040" y="2768400"/>
              <a:ext cx="1608120" cy="387360"/>
            </a:xfrm>
            <a:prstGeom prst="rect">
              <a:avLst/>
            </a:prstGeom>
            <a:solidFill>
              <a:srgbClr val="e7e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ED74-252A-48A9-8DDD-A4062C320AAA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4"/>
          <p:cNvGrpSpPr/>
          <p:nvPr/>
        </p:nvGrpSpPr>
        <p:grpSpPr>
          <a:xfrm>
            <a:off x="1969920" y="1278000"/>
            <a:ext cx="4957920" cy="3290760"/>
            <a:chOff x="1969920" y="1278000"/>
            <a:chExt cx="4957920" cy="3290760"/>
          </a:xfrm>
        </p:grpSpPr>
        <p:sp>
          <p:nvSpPr>
            <p:cNvPr id="214" name="Freeform 7"/>
            <p:cNvSpPr/>
            <p:nvPr/>
          </p:nvSpPr>
          <p:spPr>
            <a:xfrm>
              <a:off x="1969920" y="2946240"/>
              <a:ext cx="179640" cy="111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25" h="14">
                  <a:moveTo>
                    <a:pt x="220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2" y="2"/>
                  </a:lnTo>
                  <a:lnTo>
                    <a:pt x="224" y="3"/>
                  </a:lnTo>
                  <a:lnTo>
                    <a:pt x="225" y="5"/>
                  </a:lnTo>
                  <a:lnTo>
                    <a:pt x="225" y="7"/>
                  </a:lnTo>
                  <a:lnTo>
                    <a:pt x="225" y="7"/>
                  </a:lnTo>
                  <a:lnTo>
                    <a:pt x="225" y="10"/>
                  </a:lnTo>
                  <a:lnTo>
                    <a:pt x="224" y="12"/>
                  </a:lnTo>
                  <a:lnTo>
                    <a:pt x="222" y="13"/>
                  </a:lnTo>
                  <a:lnTo>
                    <a:pt x="220" y="14"/>
                  </a:lnTo>
                  <a:lnTo>
                    <a:pt x="220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2139840" y="2033640"/>
              <a:ext cx="405000" cy="9237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510" h="1165">
                  <a:moveTo>
                    <a:pt x="7" y="1165"/>
                  </a:moveTo>
                  <a:lnTo>
                    <a:pt x="7" y="1165"/>
                  </a:lnTo>
                  <a:lnTo>
                    <a:pt x="3" y="1164"/>
                  </a:lnTo>
                  <a:lnTo>
                    <a:pt x="3" y="1164"/>
                  </a:lnTo>
                  <a:lnTo>
                    <a:pt x="2" y="1163"/>
                  </a:lnTo>
                  <a:lnTo>
                    <a:pt x="0" y="1161"/>
                  </a:lnTo>
                  <a:lnTo>
                    <a:pt x="0" y="1158"/>
                  </a:lnTo>
                  <a:lnTo>
                    <a:pt x="1" y="1156"/>
                  </a:lnTo>
                  <a:lnTo>
                    <a:pt x="497" y="4"/>
                  </a:lnTo>
                  <a:lnTo>
                    <a:pt x="497" y="4"/>
                  </a:lnTo>
                  <a:lnTo>
                    <a:pt x="498" y="2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5" y="0"/>
                  </a:lnTo>
                  <a:lnTo>
                    <a:pt x="508" y="3"/>
                  </a:lnTo>
                  <a:lnTo>
                    <a:pt x="509" y="5"/>
                  </a:lnTo>
                  <a:lnTo>
                    <a:pt x="510" y="7"/>
                  </a:lnTo>
                  <a:lnTo>
                    <a:pt x="509" y="10"/>
                  </a:lnTo>
                  <a:lnTo>
                    <a:pt x="12" y="1161"/>
                  </a:lnTo>
                  <a:lnTo>
                    <a:pt x="12" y="1161"/>
                  </a:lnTo>
                  <a:lnTo>
                    <a:pt x="10" y="1164"/>
                  </a:lnTo>
                  <a:lnTo>
                    <a:pt x="7" y="1165"/>
                  </a:lnTo>
                  <a:lnTo>
                    <a:pt x="7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2533680" y="2033640"/>
              <a:ext cx="1730520" cy="93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80" h="13">
                  <a:moveTo>
                    <a:pt x="217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3"/>
                  </a:lnTo>
                  <a:lnTo>
                    <a:pt x="2180" y="4"/>
                  </a:lnTo>
                  <a:lnTo>
                    <a:pt x="2180" y="7"/>
                  </a:lnTo>
                  <a:lnTo>
                    <a:pt x="2180" y="7"/>
                  </a:lnTo>
                  <a:lnTo>
                    <a:pt x="2180" y="10"/>
                  </a:lnTo>
                  <a:lnTo>
                    <a:pt x="2177" y="12"/>
                  </a:lnTo>
                  <a:lnTo>
                    <a:pt x="2176" y="13"/>
                  </a:lnTo>
                  <a:lnTo>
                    <a:pt x="2173" y="13"/>
                  </a:lnTo>
                  <a:lnTo>
                    <a:pt x="217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4254480" y="1582560"/>
              <a:ext cx="542880" cy="4604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86" h="580">
                  <a:moveTo>
                    <a:pt x="6" y="580"/>
                  </a:moveTo>
                  <a:lnTo>
                    <a:pt x="6" y="580"/>
                  </a:lnTo>
                  <a:lnTo>
                    <a:pt x="4" y="580"/>
                  </a:lnTo>
                  <a:lnTo>
                    <a:pt x="1" y="578"/>
                  </a:lnTo>
                  <a:lnTo>
                    <a:pt x="1" y="578"/>
                  </a:lnTo>
                  <a:lnTo>
                    <a:pt x="0" y="575"/>
                  </a:lnTo>
                  <a:lnTo>
                    <a:pt x="0" y="573"/>
                  </a:lnTo>
                  <a:lnTo>
                    <a:pt x="0" y="571"/>
                  </a:lnTo>
                  <a:lnTo>
                    <a:pt x="2" y="569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7" y="0"/>
                  </a:lnTo>
                  <a:lnTo>
                    <a:pt x="680" y="0"/>
                  </a:lnTo>
                  <a:lnTo>
                    <a:pt x="682" y="2"/>
                  </a:lnTo>
                  <a:lnTo>
                    <a:pt x="684" y="3"/>
                  </a:lnTo>
                  <a:lnTo>
                    <a:pt x="684" y="3"/>
                  </a:lnTo>
                  <a:lnTo>
                    <a:pt x="686" y="5"/>
                  </a:lnTo>
                  <a:lnTo>
                    <a:pt x="686" y="7"/>
                  </a:lnTo>
                  <a:lnTo>
                    <a:pt x="686" y="10"/>
                  </a:lnTo>
                  <a:lnTo>
                    <a:pt x="683" y="12"/>
                  </a:lnTo>
                  <a:lnTo>
                    <a:pt x="10" y="579"/>
                  </a:lnTo>
                  <a:lnTo>
                    <a:pt x="10" y="579"/>
                  </a:lnTo>
                  <a:lnTo>
                    <a:pt x="8" y="580"/>
                  </a:lnTo>
                  <a:lnTo>
                    <a:pt x="6" y="580"/>
                  </a:lnTo>
                  <a:lnTo>
                    <a:pt x="6" y="58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4254480" y="2033640"/>
              <a:ext cx="547560" cy="45720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690" h="578">
                  <a:moveTo>
                    <a:pt x="683" y="578"/>
                  </a:moveTo>
                  <a:lnTo>
                    <a:pt x="683" y="578"/>
                  </a:lnTo>
                  <a:lnTo>
                    <a:pt x="681" y="578"/>
                  </a:lnTo>
                  <a:lnTo>
                    <a:pt x="680" y="57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688" y="566"/>
                  </a:lnTo>
                  <a:lnTo>
                    <a:pt x="688" y="566"/>
                  </a:lnTo>
                  <a:lnTo>
                    <a:pt x="689" y="568"/>
                  </a:lnTo>
                  <a:lnTo>
                    <a:pt x="690" y="571"/>
                  </a:lnTo>
                  <a:lnTo>
                    <a:pt x="690" y="573"/>
                  </a:lnTo>
                  <a:lnTo>
                    <a:pt x="689" y="575"/>
                  </a:lnTo>
                  <a:lnTo>
                    <a:pt x="689" y="575"/>
                  </a:lnTo>
                  <a:lnTo>
                    <a:pt x="687" y="578"/>
                  </a:lnTo>
                  <a:lnTo>
                    <a:pt x="683" y="578"/>
                  </a:lnTo>
                  <a:lnTo>
                    <a:pt x="683" y="578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788000" y="15825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69" h="13">
                  <a:moveTo>
                    <a:pt x="2163" y="13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0"/>
                  </a:lnTo>
                  <a:lnTo>
                    <a:pt x="2168" y="3"/>
                  </a:lnTo>
                  <a:lnTo>
                    <a:pt x="2169" y="5"/>
                  </a:lnTo>
                  <a:lnTo>
                    <a:pt x="2169" y="7"/>
                  </a:lnTo>
                  <a:lnTo>
                    <a:pt x="2169" y="7"/>
                  </a:lnTo>
                  <a:lnTo>
                    <a:pt x="2169" y="10"/>
                  </a:lnTo>
                  <a:lnTo>
                    <a:pt x="2168" y="12"/>
                  </a:lnTo>
                  <a:lnTo>
                    <a:pt x="2166" y="13"/>
                  </a:lnTo>
                  <a:lnTo>
                    <a:pt x="2163" y="13"/>
                  </a:lnTo>
                  <a:lnTo>
                    <a:pt x="2163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6499080" y="1370160"/>
              <a:ext cx="424080" cy="22356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35" h="281">
                  <a:moveTo>
                    <a:pt x="7" y="281"/>
                  </a:moveTo>
                  <a:lnTo>
                    <a:pt x="7" y="281"/>
                  </a:lnTo>
                  <a:lnTo>
                    <a:pt x="4" y="281"/>
                  </a:lnTo>
                  <a:lnTo>
                    <a:pt x="2" y="278"/>
                  </a:lnTo>
                  <a:lnTo>
                    <a:pt x="2" y="278"/>
                  </a:lnTo>
                  <a:lnTo>
                    <a:pt x="0" y="275"/>
                  </a:lnTo>
                  <a:lnTo>
                    <a:pt x="0" y="273"/>
                  </a:lnTo>
                  <a:lnTo>
                    <a:pt x="2" y="271"/>
                  </a:lnTo>
                  <a:lnTo>
                    <a:pt x="4" y="270"/>
                  </a:lnTo>
                  <a:lnTo>
                    <a:pt x="526" y="1"/>
                  </a:lnTo>
                  <a:lnTo>
                    <a:pt x="526" y="1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3" y="1"/>
                  </a:lnTo>
                  <a:lnTo>
                    <a:pt x="535" y="3"/>
                  </a:lnTo>
                  <a:lnTo>
                    <a:pt x="535" y="3"/>
                  </a:lnTo>
                  <a:lnTo>
                    <a:pt x="535" y="6"/>
                  </a:lnTo>
                  <a:lnTo>
                    <a:pt x="535" y="8"/>
                  </a:lnTo>
                  <a:lnTo>
                    <a:pt x="534" y="10"/>
                  </a:lnTo>
                  <a:lnTo>
                    <a:pt x="531" y="13"/>
                  </a:lnTo>
                  <a:lnTo>
                    <a:pt x="10" y="281"/>
                  </a:lnTo>
                  <a:lnTo>
                    <a:pt x="10" y="281"/>
                  </a:lnTo>
                  <a:lnTo>
                    <a:pt x="7" y="281"/>
                  </a:lnTo>
                  <a:lnTo>
                    <a:pt x="7" y="28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6499080" y="1582560"/>
              <a:ext cx="424080" cy="223920"/>
            </a:xfrm>
            <a:custGeom>
              <a:avLst/>
              <a:gdLst>
                <a:gd name="textAreaLeft" fmla="*/ 0 w 424080"/>
                <a:gd name="textAreaRight" fmla="*/ 424080 w 4240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529" y="283"/>
                  </a:moveTo>
                  <a:lnTo>
                    <a:pt x="529" y="283"/>
                  </a:lnTo>
                  <a:lnTo>
                    <a:pt x="526" y="28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4" y="271"/>
                  </a:lnTo>
                  <a:lnTo>
                    <a:pt x="535" y="274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3" y="282"/>
                  </a:lnTo>
                  <a:lnTo>
                    <a:pt x="529" y="283"/>
                  </a:lnTo>
                  <a:lnTo>
                    <a:pt x="529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4791240" y="2481120"/>
              <a:ext cx="2130120" cy="9720"/>
            </a:xfrm>
            <a:custGeom>
              <a:avLst/>
              <a:gdLst>
                <a:gd name="textAreaLeft" fmla="*/ 0 w 2130120"/>
                <a:gd name="textAreaRight" fmla="*/ 2130480 w 21301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683" h="13">
                  <a:moveTo>
                    <a:pt x="2675" y="13"/>
                  </a:moveTo>
                  <a:lnTo>
                    <a:pt x="9" y="13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2675" y="0"/>
                  </a:lnTo>
                  <a:lnTo>
                    <a:pt x="2675" y="0"/>
                  </a:lnTo>
                  <a:lnTo>
                    <a:pt x="2679" y="0"/>
                  </a:lnTo>
                  <a:lnTo>
                    <a:pt x="2681" y="2"/>
                  </a:lnTo>
                  <a:lnTo>
                    <a:pt x="2683" y="5"/>
                  </a:lnTo>
                  <a:lnTo>
                    <a:pt x="2683" y="7"/>
                  </a:lnTo>
                  <a:lnTo>
                    <a:pt x="2683" y="7"/>
                  </a:lnTo>
                  <a:lnTo>
                    <a:pt x="2683" y="9"/>
                  </a:lnTo>
                  <a:lnTo>
                    <a:pt x="2681" y="11"/>
                  </a:lnTo>
                  <a:lnTo>
                    <a:pt x="2679" y="13"/>
                  </a:lnTo>
                  <a:lnTo>
                    <a:pt x="2675" y="13"/>
                  </a:lnTo>
                  <a:lnTo>
                    <a:pt x="2675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5640" bIns="-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>
              <a:off x="6923160" y="2486160"/>
              <a:ext cx="0" cy="0"/>
            </a:xfrm>
            <a:prstGeom prst="line">
              <a:avLst/>
            </a:prstGeom>
            <a:ln w="11160">
              <a:solidFill>
                <a:srgbClr val="a9b2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2139840" y="2946240"/>
              <a:ext cx="405000" cy="9255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510" h="1165">
                  <a:moveTo>
                    <a:pt x="503" y="1165"/>
                  </a:moveTo>
                  <a:lnTo>
                    <a:pt x="503" y="1165"/>
                  </a:lnTo>
                  <a:lnTo>
                    <a:pt x="500" y="1164"/>
                  </a:lnTo>
                  <a:lnTo>
                    <a:pt x="497" y="116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509" y="1156"/>
                  </a:lnTo>
                  <a:lnTo>
                    <a:pt x="509" y="1156"/>
                  </a:lnTo>
                  <a:lnTo>
                    <a:pt x="510" y="1158"/>
                  </a:lnTo>
                  <a:lnTo>
                    <a:pt x="509" y="1161"/>
                  </a:lnTo>
                  <a:lnTo>
                    <a:pt x="508" y="1163"/>
                  </a:lnTo>
                  <a:lnTo>
                    <a:pt x="505" y="1165"/>
                  </a:lnTo>
                  <a:lnTo>
                    <a:pt x="505" y="1165"/>
                  </a:lnTo>
                  <a:lnTo>
                    <a:pt x="503" y="1165"/>
                  </a:lnTo>
                  <a:lnTo>
                    <a:pt x="503" y="116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2533680" y="3860640"/>
              <a:ext cx="1730520" cy="111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80" h="12">
                  <a:moveTo>
                    <a:pt x="2173" y="12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173" y="0"/>
                  </a:lnTo>
                  <a:lnTo>
                    <a:pt x="2173" y="0"/>
                  </a:lnTo>
                  <a:lnTo>
                    <a:pt x="2176" y="0"/>
                  </a:lnTo>
                  <a:lnTo>
                    <a:pt x="2177" y="1"/>
                  </a:lnTo>
                  <a:lnTo>
                    <a:pt x="2180" y="3"/>
                  </a:lnTo>
                  <a:lnTo>
                    <a:pt x="2180" y="5"/>
                  </a:lnTo>
                  <a:lnTo>
                    <a:pt x="2180" y="5"/>
                  </a:lnTo>
                  <a:lnTo>
                    <a:pt x="2180" y="9"/>
                  </a:lnTo>
                  <a:lnTo>
                    <a:pt x="2177" y="10"/>
                  </a:lnTo>
                  <a:lnTo>
                    <a:pt x="2176" y="12"/>
                  </a:lnTo>
                  <a:lnTo>
                    <a:pt x="2173" y="12"/>
                  </a:lnTo>
                  <a:lnTo>
                    <a:pt x="2173" y="1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4254480" y="3860640"/>
              <a:ext cx="547560" cy="4636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690" h="584">
                  <a:moveTo>
                    <a:pt x="683" y="584"/>
                  </a:moveTo>
                  <a:lnTo>
                    <a:pt x="683" y="584"/>
                  </a:lnTo>
                  <a:lnTo>
                    <a:pt x="681" y="583"/>
                  </a:lnTo>
                  <a:lnTo>
                    <a:pt x="680" y="58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688" y="572"/>
                  </a:lnTo>
                  <a:lnTo>
                    <a:pt x="688" y="572"/>
                  </a:lnTo>
                  <a:lnTo>
                    <a:pt x="689" y="573"/>
                  </a:lnTo>
                  <a:lnTo>
                    <a:pt x="690" y="577"/>
                  </a:lnTo>
                  <a:lnTo>
                    <a:pt x="690" y="579"/>
                  </a:lnTo>
                  <a:lnTo>
                    <a:pt x="689" y="581"/>
                  </a:lnTo>
                  <a:lnTo>
                    <a:pt x="689" y="581"/>
                  </a:lnTo>
                  <a:lnTo>
                    <a:pt x="687" y="583"/>
                  </a:lnTo>
                  <a:lnTo>
                    <a:pt x="683" y="584"/>
                  </a:lnTo>
                  <a:lnTo>
                    <a:pt x="683" y="58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4254480" y="3413160"/>
              <a:ext cx="547560" cy="45864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90" h="577">
                  <a:moveTo>
                    <a:pt x="6" y="577"/>
                  </a:moveTo>
                  <a:lnTo>
                    <a:pt x="6" y="577"/>
                  </a:lnTo>
                  <a:lnTo>
                    <a:pt x="4" y="577"/>
                  </a:lnTo>
                  <a:lnTo>
                    <a:pt x="1" y="575"/>
                  </a:lnTo>
                  <a:lnTo>
                    <a:pt x="1" y="575"/>
                  </a:lnTo>
                  <a:lnTo>
                    <a:pt x="0" y="573"/>
                  </a:lnTo>
                  <a:lnTo>
                    <a:pt x="0" y="570"/>
                  </a:lnTo>
                  <a:lnTo>
                    <a:pt x="0" y="568"/>
                  </a:lnTo>
                  <a:lnTo>
                    <a:pt x="2" y="566"/>
                  </a:lnTo>
                  <a:lnTo>
                    <a:pt x="680" y="1"/>
                  </a:lnTo>
                  <a:lnTo>
                    <a:pt x="680" y="1"/>
                  </a:lnTo>
                  <a:lnTo>
                    <a:pt x="682" y="0"/>
                  </a:lnTo>
                  <a:lnTo>
                    <a:pt x="684" y="0"/>
                  </a:lnTo>
                  <a:lnTo>
                    <a:pt x="687" y="0"/>
                  </a:lnTo>
                  <a:lnTo>
                    <a:pt x="689" y="2"/>
                  </a:lnTo>
                  <a:lnTo>
                    <a:pt x="689" y="2"/>
                  </a:lnTo>
                  <a:lnTo>
                    <a:pt x="690" y="5"/>
                  </a:lnTo>
                  <a:lnTo>
                    <a:pt x="690" y="7"/>
                  </a:lnTo>
                  <a:lnTo>
                    <a:pt x="689" y="9"/>
                  </a:lnTo>
                  <a:lnTo>
                    <a:pt x="688" y="12"/>
                  </a:lnTo>
                  <a:lnTo>
                    <a:pt x="10" y="576"/>
                  </a:lnTo>
                  <a:lnTo>
                    <a:pt x="10" y="576"/>
                  </a:lnTo>
                  <a:lnTo>
                    <a:pt x="8" y="577"/>
                  </a:lnTo>
                  <a:lnTo>
                    <a:pt x="6" y="577"/>
                  </a:lnTo>
                  <a:lnTo>
                    <a:pt x="6" y="57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>
              <a:off x="4791240" y="4313160"/>
              <a:ext cx="1722240" cy="1116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70" h="14">
                  <a:moveTo>
                    <a:pt x="2163" y="14"/>
                  </a:moveTo>
                  <a:lnTo>
                    <a:pt x="6" y="14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2163" y="0"/>
                  </a:lnTo>
                  <a:lnTo>
                    <a:pt x="2163" y="0"/>
                  </a:lnTo>
                  <a:lnTo>
                    <a:pt x="2166" y="1"/>
                  </a:lnTo>
                  <a:lnTo>
                    <a:pt x="2167" y="2"/>
                  </a:lnTo>
                  <a:lnTo>
                    <a:pt x="2170" y="5"/>
                  </a:lnTo>
                  <a:lnTo>
                    <a:pt x="2170" y="7"/>
                  </a:lnTo>
                  <a:lnTo>
                    <a:pt x="2170" y="7"/>
                  </a:lnTo>
                  <a:lnTo>
                    <a:pt x="2170" y="9"/>
                  </a:lnTo>
                  <a:lnTo>
                    <a:pt x="2167" y="11"/>
                  </a:lnTo>
                  <a:lnTo>
                    <a:pt x="2166" y="13"/>
                  </a:lnTo>
                  <a:lnTo>
                    <a:pt x="2163" y="14"/>
                  </a:lnTo>
                  <a:lnTo>
                    <a:pt x="2163" y="14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6504120" y="4313160"/>
              <a:ext cx="423720" cy="2253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35" h="282">
                  <a:moveTo>
                    <a:pt x="528" y="282"/>
                  </a:moveTo>
                  <a:lnTo>
                    <a:pt x="528" y="282"/>
                  </a:lnTo>
                  <a:lnTo>
                    <a:pt x="525" y="28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531" y="270"/>
                  </a:lnTo>
                  <a:lnTo>
                    <a:pt x="531" y="270"/>
                  </a:lnTo>
                  <a:lnTo>
                    <a:pt x="533" y="272"/>
                  </a:lnTo>
                  <a:lnTo>
                    <a:pt x="535" y="273"/>
                  </a:lnTo>
                  <a:lnTo>
                    <a:pt x="535" y="276"/>
                  </a:lnTo>
                  <a:lnTo>
                    <a:pt x="535" y="279"/>
                  </a:lnTo>
                  <a:lnTo>
                    <a:pt x="535" y="279"/>
                  </a:lnTo>
                  <a:lnTo>
                    <a:pt x="531" y="281"/>
                  </a:lnTo>
                  <a:lnTo>
                    <a:pt x="528" y="282"/>
                  </a:lnTo>
                  <a:lnTo>
                    <a:pt x="528" y="2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6504120" y="4100400"/>
              <a:ext cx="423720" cy="223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535" h="283">
                  <a:moveTo>
                    <a:pt x="6" y="283"/>
                  </a:moveTo>
                  <a:lnTo>
                    <a:pt x="6" y="283"/>
                  </a:lnTo>
                  <a:lnTo>
                    <a:pt x="3" y="282"/>
                  </a:lnTo>
                  <a:lnTo>
                    <a:pt x="0" y="279"/>
                  </a:lnTo>
                  <a:lnTo>
                    <a:pt x="0" y="279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1" y="271"/>
                  </a:lnTo>
                  <a:lnTo>
                    <a:pt x="3" y="270"/>
                  </a:lnTo>
                  <a:lnTo>
                    <a:pt x="525" y="2"/>
                  </a:lnTo>
                  <a:lnTo>
                    <a:pt x="525" y="2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5" y="6"/>
                  </a:lnTo>
                  <a:lnTo>
                    <a:pt x="535" y="10"/>
                  </a:lnTo>
                  <a:lnTo>
                    <a:pt x="533" y="12"/>
                  </a:lnTo>
                  <a:lnTo>
                    <a:pt x="531" y="13"/>
                  </a:lnTo>
                  <a:lnTo>
                    <a:pt x="9" y="282"/>
                  </a:lnTo>
                  <a:lnTo>
                    <a:pt x="9" y="282"/>
                  </a:lnTo>
                  <a:lnTo>
                    <a:pt x="6" y="283"/>
                  </a:lnTo>
                  <a:lnTo>
                    <a:pt x="6" y="2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4791240" y="3413160"/>
              <a:ext cx="2130120" cy="9360"/>
            </a:xfrm>
            <a:custGeom>
              <a:avLst/>
              <a:gdLst>
                <a:gd name="textAreaLeft" fmla="*/ 0 w 2130120"/>
                <a:gd name="textAreaRight" fmla="*/ 2130480 w 213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83" h="13">
                  <a:moveTo>
                    <a:pt x="2675" y="13"/>
                  </a:moveTo>
                  <a:lnTo>
                    <a:pt x="9" y="13"/>
                  </a:lnTo>
                  <a:lnTo>
                    <a:pt x="9" y="13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2675" y="0"/>
                  </a:lnTo>
                  <a:lnTo>
                    <a:pt x="2675" y="0"/>
                  </a:lnTo>
                  <a:lnTo>
                    <a:pt x="2679" y="0"/>
                  </a:lnTo>
                  <a:lnTo>
                    <a:pt x="2681" y="1"/>
                  </a:lnTo>
                  <a:lnTo>
                    <a:pt x="2683" y="3"/>
                  </a:lnTo>
                  <a:lnTo>
                    <a:pt x="2683" y="6"/>
                  </a:lnTo>
                  <a:lnTo>
                    <a:pt x="2683" y="6"/>
                  </a:lnTo>
                  <a:lnTo>
                    <a:pt x="2683" y="8"/>
                  </a:lnTo>
                  <a:lnTo>
                    <a:pt x="2681" y="10"/>
                  </a:lnTo>
                  <a:lnTo>
                    <a:pt x="2679" y="12"/>
                  </a:lnTo>
                  <a:lnTo>
                    <a:pt x="2675" y="13"/>
                  </a:lnTo>
                  <a:lnTo>
                    <a:pt x="2675" y="1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608200" y="1851120"/>
              <a:ext cx="1581120" cy="37440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3" name="Rectangle 26"/>
            <p:cNvSpPr/>
            <p:nvPr/>
          </p:nvSpPr>
          <p:spPr>
            <a:xfrm>
              <a:off x="4859280" y="1401840"/>
              <a:ext cx="1579680" cy="372960"/>
            </a:xfrm>
            <a:prstGeom prst="rect">
              <a:avLst/>
            </a:prstGeom>
            <a:solidFill>
              <a:srgbClr val="49c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4" name="Rectangle 27"/>
            <p:cNvSpPr/>
            <p:nvPr/>
          </p:nvSpPr>
          <p:spPr>
            <a:xfrm>
              <a:off x="4859280" y="4130640"/>
              <a:ext cx="157968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5" name="Rectangle 28"/>
            <p:cNvSpPr/>
            <p:nvPr/>
          </p:nvSpPr>
          <p:spPr>
            <a:xfrm>
              <a:off x="2608200" y="3679920"/>
              <a:ext cx="1581120" cy="372960"/>
            </a:xfrm>
            <a:prstGeom prst="rect">
              <a:avLst/>
            </a:prstGeom>
            <a:solidFill>
              <a:srgbClr val="fb6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2038320" y="20145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7" h="135">
                  <a:moveTo>
                    <a:pt x="57" y="82"/>
                  </a:moveTo>
                  <a:lnTo>
                    <a:pt x="57" y="132"/>
                  </a:lnTo>
                  <a:lnTo>
                    <a:pt x="57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7" y="4"/>
                  </a:lnTo>
                  <a:lnTo>
                    <a:pt x="97" y="4"/>
                  </a:lnTo>
                  <a:lnTo>
                    <a:pt x="94" y="7"/>
                  </a:lnTo>
                  <a:lnTo>
                    <a:pt x="57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2112840" y="2041560"/>
              <a:ext cx="68400" cy="81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4" y="50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9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71" y="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4" y="35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5"/>
                  </a:lnTo>
                  <a:lnTo>
                    <a:pt x="67" y="30"/>
                  </a:lnTo>
                  <a:lnTo>
                    <a:pt x="65" y="25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9" y="18"/>
                  </a:lnTo>
                  <a:lnTo>
                    <a:pt x="54" y="16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2195640" y="204156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4" y="79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49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1" y="99"/>
                  </a:lnTo>
                  <a:lnTo>
                    <a:pt x="11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1" y="80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5" y="83"/>
                  </a:lnTo>
                  <a:lnTo>
                    <a:pt x="47" y="80"/>
                  </a:lnTo>
                  <a:lnTo>
                    <a:pt x="47" y="80"/>
                  </a:lnTo>
                  <a:lnTo>
                    <a:pt x="48" y="77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6" y="42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2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5"/>
                  </a:lnTo>
                  <a:lnTo>
                    <a:pt x="44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4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4319640" y="148284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6" h="133">
                  <a:moveTo>
                    <a:pt x="56" y="82"/>
                  </a:moveTo>
                  <a:lnTo>
                    <a:pt x="56" y="130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4" y="133"/>
                  </a:lnTo>
                  <a:lnTo>
                    <a:pt x="54" y="133"/>
                  </a:lnTo>
                  <a:lnTo>
                    <a:pt x="52" y="133"/>
                  </a:lnTo>
                  <a:lnTo>
                    <a:pt x="52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4" y="133"/>
                  </a:lnTo>
                  <a:lnTo>
                    <a:pt x="44" y="133"/>
                  </a:lnTo>
                  <a:lnTo>
                    <a:pt x="40" y="133"/>
                  </a:lnTo>
                  <a:lnTo>
                    <a:pt x="40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0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1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3"/>
                  </a:lnTo>
                  <a:lnTo>
                    <a:pt x="96" y="3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4394160" y="1509840"/>
              <a:ext cx="66600" cy="79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22" y="74"/>
                  </a:lnTo>
                  <a:lnTo>
                    <a:pt x="25" y="80"/>
                  </a:lnTo>
                  <a:lnTo>
                    <a:pt x="25" y="80"/>
                  </a:lnTo>
                  <a:lnTo>
                    <a:pt x="29" y="83"/>
                  </a:lnTo>
                  <a:lnTo>
                    <a:pt x="34" y="85"/>
                  </a:lnTo>
                  <a:lnTo>
                    <a:pt x="34" y="85"/>
                  </a:lnTo>
                  <a:lnTo>
                    <a:pt x="41" y="88"/>
                  </a:lnTo>
                  <a:lnTo>
                    <a:pt x="49" y="88"/>
                  </a:lnTo>
                  <a:lnTo>
                    <a:pt x="49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9" y="84"/>
                  </a:lnTo>
                  <a:lnTo>
                    <a:pt x="69" y="84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5"/>
                  </a:lnTo>
                  <a:lnTo>
                    <a:pt x="80" y="95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2"/>
                  </a:lnTo>
                  <a:lnTo>
                    <a:pt x="59" y="102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2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7" y="8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1" y="8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81" y="20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7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4476600" y="1509840"/>
              <a:ext cx="51120" cy="792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3"/>
                  </a:moveTo>
                  <a:lnTo>
                    <a:pt x="66" y="73"/>
                  </a:lnTo>
                  <a:lnTo>
                    <a:pt x="65" y="78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2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8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8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3"/>
                  </a:lnTo>
                  <a:lnTo>
                    <a:pt x="66" y="7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6524640" y="1278000"/>
              <a:ext cx="76320" cy="106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5" h="134">
                  <a:moveTo>
                    <a:pt x="56" y="83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4"/>
                  </a:lnTo>
                  <a:lnTo>
                    <a:pt x="51" y="134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3" y="134"/>
                  </a:lnTo>
                  <a:lnTo>
                    <a:pt x="43" y="134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3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6599160" y="130500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7"/>
                  </a:moveTo>
                  <a:lnTo>
                    <a:pt x="84" y="47"/>
                  </a:lnTo>
                  <a:lnTo>
                    <a:pt x="84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78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2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1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7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7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6680160" y="1305000"/>
              <a:ext cx="52560" cy="81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0" y="97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4"/>
                  </a:lnTo>
                  <a:lnTo>
                    <a:pt x="49" y="74"/>
                  </a:lnTo>
                  <a:lnTo>
                    <a:pt x="48" y="69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7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2060640" y="376092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5"/>
                  </a:moveTo>
                  <a:lnTo>
                    <a:pt x="100" y="125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5" y="132"/>
                  </a:lnTo>
                  <a:lnTo>
                    <a:pt x="95" y="132"/>
                  </a:lnTo>
                  <a:lnTo>
                    <a:pt x="92" y="134"/>
                  </a:lnTo>
                  <a:lnTo>
                    <a:pt x="86" y="134"/>
                  </a:lnTo>
                  <a:lnTo>
                    <a:pt x="86" y="134"/>
                  </a:lnTo>
                  <a:lnTo>
                    <a:pt x="81" y="132"/>
                  </a:lnTo>
                  <a:lnTo>
                    <a:pt x="81" y="132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73" y="127"/>
                  </a:lnTo>
                  <a:lnTo>
                    <a:pt x="73" y="127"/>
                  </a:lnTo>
                  <a:lnTo>
                    <a:pt x="70" y="12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49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0" y="2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6" name="Freeform 39"/>
            <p:cNvSpPr/>
            <p:nvPr/>
          </p:nvSpPr>
          <p:spPr>
            <a:xfrm>
              <a:off x="2162160" y="3787920"/>
              <a:ext cx="73080" cy="7920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50"/>
                  </a:moveTo>
                  <a:lnTo>
                    <a:pt x="93" y="50"/>
                  </a:lnTo>
                  <a:lnTo>
                    <a:pt x="91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80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4" y="94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56" y="101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35" y="101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6" y="81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75" y="7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1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7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8" y="87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3" y="87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4" y="82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7" name="Freeform 40"/>
            <p:cNvSpPr/>
            <p:nvPr/>
          </p:nvSpPr>
          <p:spPr>
            <a:xfrm>
              <a:off x="4341960" y="2381400"/>
              <a:ext cx="80640" cy="104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6"/>
                  </a:moveTo>
                  <a:lnTo>
                    <a:pt x="101" y="126"/>
                  </a:lnTo>
                  <a:lnTo>
                    <a:pt x="100" y="129"/>
                  </a:lnTo>
                  <a:lnTo>
                    <a:pt x="100" y="129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0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51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2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10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4"/>
                  </a:lnTo>
                  <a:lnTo>
                    <a:pt x="101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8" name="Freeform 41"/>
            <p:cNvSpPr/>
            <p:nvPr/>
          </p:nvSpPr>
          <p:spPr>
            <a:xfrm>
              <a:off x="4443480" y="240660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1">
                  <a:moveTo>
                    <a:pt x="92" y="49"/>
                  </a:moveTo>
                  <a:lnTo>
                    <a:pt x="92" y="49"/>
                  </a:lnTo>
                  <a:lnTo>
                    <a:pt x="92" y="61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6" y="79"/>
                  </a:lnTo>
                  <a:lnTo>
                    <a:pt x="80" y="87"/>
                  </a:lnTo>
                  <a:lnTo>
                    <a:pt x="80" y="87"/>
                  </a:lnTo>
                  <a:lnTo>
                    <a:pt x="73" y="93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44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4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5" y="81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74" y="8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6" y="20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2" y="39"/>
                  </a:lnTo>
                  <a:lnTo>
                    <a:pt x="92" y="49"/>
                  </a:lnTo>
                  <a:lnTo>
                    <a:pt x="92" y="49"/>
                  </a:lnTo>
                  <a:close/>
                  <a:moveTo>
                    <a:pt x="74" y="50"/>
                  </a:moveTo>
                  <a:lnTo>
                    <a:pt x="74" y="50"/>
                  </a:lnTo>
                  <a:lnTo>
                    <a:pt x="74" y="43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1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5" y="2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4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39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1" y="30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8" y="42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0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7" y="80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1" y="72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74" y="58"/>
                  </a:lnTo>
                  <a:lnTo>
                    <a:pt x="74" y="50"/>
                  </a:lnTo>
                  <a:lnTo>
                    <a:pt x="74" y="50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49" name="Freeform 42"/>
            <p:cNvSpPr/>
            <p:nvPr/>
          </p:nvSpPr>
          <p:spPr>
            <a:xfrm>
              <a:off x="6558120" y="1774800"/>
              <a:ext cx="79200" cy="106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00" h="134">
                  <a:moveTo>
                    <a:pt x="100" y="126"/>
                  </a:moveTo>
                  <a:lnTo>
                    <a:pt x="100" y="126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3"/>
                  </a:lnTo>
                  <a:lnTo>
                    <a:pt x="98" y="133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92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4" y="127"/>
                  </a:lnTo>
                  <a:lnTo>
                    <a:pt x="74" y="127"/>
                  </a:lnTo>
                  <a:lnTo>
                    <a:pt x="70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51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5" y="134"/>
                  </a:lnTo>
                  <a:lnTo>
                    <a:pt x="15" y="134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8" y="134"/>
                  </a:lnTo>
                  <a:lnTo>
                    <a:pt x="8" y="134"/>
                  </a:lnTo>
                  <a:lnTo>
                    <a:pt x="5" y="134"/>
                  </a:lnTo>
                  <a:lnTo>
                    <a:pt x="5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1" y="12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110"/>
                  </a:lnTo>
                  <a:lnTo>
                    <a:pt x="83" y="93"/>
                  </a:lnTo>
                  <a:lnTo>
                    <a:pt x="83" y="93"/>
                  </a:lnTo>
                  <a:lnTo>
                    <a:pt x="83" y="75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0" y="4"/>
                  </a:lnTo>
                  <a:lnTo>
                    <a:pt x="100" y="126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6657840" y="1801800"/>
              <a:ext cx="74880" cy="810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49"/>
                  </a:moveTo>
                  <a:lnTo>
                    <a:pt x="93" y="49"/>
                  </a:lnTo>
                  <a:lnTo>
                    <a:pt x="92" y="6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6" y="79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49"/>
                  </a:lnTo>
                  <a:lnTo>
                    <a:pt x="93" y="49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2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7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2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6524640" y="396396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5" h="135">
                  <a:moveTo>
                    <a:pt x="56" y="82"/>
                  </a:moveTo>
                  <a:lnTo>
                    <a:pt x="56" y="131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6" y="132"/>
                  </a:lnTo>
                  <a:lnTo>
                    <a:pt x="55" y="133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51" y="135"/>
                  </a:lnTo>
                  <a:lnTo>
                    <a:pt x="48" y="135"/>
                  </a:lnTo>
                  <a:lnTo>
                    <a:pt x="48" y="135"/>
                  </a:lnTo>
                  <a:lnTo>
                    <a:pt x="43" y="135"/>
                  </a:lnTo>
                  <a:lnTo>
                    <a:pt x="43" y="135"/>
                  </a:lnTo>
                  <a:lnTo>
                    <a:pt x="41" y="133"/>
                  </a:lnTo>
                  <a:lnTo>
                    <a:pt x="41" y="133"/>
                  </a:lnTo>
                  <a:lnTo>
                    <a:pt x="39" y="132"/>
                  </a:lnTo>
                  <a:lnTo>
                    <a:pt x="39" y="132"/>
                  </a:lnTo>
                  <a:lnTo>
                    <a:pt x="39" y="131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2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4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6599160" y="3992400"/>
              <a:ext cx="66600" cy="79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84" h="102">
                  <a:moveTo>
                    <a:pt x="84" y="46"/>
                  </a:moveTo>
                  <a:lnTo>
                    <a:pt x="84" y="46"/>
                  </a:lnTo>
                  <a:lnTo>
                    <a:pt x="84" y="50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1" y="55"/>
                  </a:lnTo>
                  <a:lnTo>
                    <a:pt x="78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1" y="74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8" y="83"/>
                  </a:lnTo>
                  <a:lnTo>
                    <a:pt x="33" y="86"/>
                  </a:lnTo>
                  <a:lnTo>
                    <a:pt x="33" y="86"/>
                  </a:lnTo>
                  <a:lnTo>
                    <a:pt x="39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59" y="87"/>
                  </a:lnTo>
                  <a:lnTo>
                    <a:pt x="59" y="87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79" y="81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81" y="84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79" y="94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5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7" y="95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6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0" y="6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4" y="35"/>
                  </a:lnTo>
                  <a:lnTo>
                    <a:pt x="84" y="44"/>
                  </a:lnTo>
                  <a:lnTo>
                    <a:pt x="84" y="46"/>
                  </a:lnTo>
                  <a:close/>
                  <a:moveTo>
                    <a:pt x="68" y="42"/>
                  </a:moveTo>
                  <a:lnTo>
                    <a:pt x="68" y="42"/>
                  </a:lnTo>
                  <a:lnTo>
                    <a:pt x="67" y="36"/>
                  </a:lnTo>
                  <a:lnTo>
                    <a:pt x="66" y="30"/>
                  </a:lnTo>
                  <a:lnTo>
                    <a:pt x="64" y="26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8" y="18"/>
                  </a:lnTo>
                  <a:lnTo>
                    <a:pt x="54" y="15"/>
                  </a:lnTo>
                  <a:lnTo>
                    <a:pt x="48" y="14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68" y="4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3" name="Freeform 45"/>
            <p:cNvSpPr/>
            <p:nvPr/>
          </p:nvSpPr>
          <p:spPr>
            <a:xfrm>
              <a:off x="6680160" y="399240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65" h="102">
                  <a:moveTo>
                    <a:pt x="65" y="72"/>
                  </a:moveTo>
                  <a:lnTo>
                    <a:pt x="65" y="72"/>
                  </a:lnTo>
                  <a:lnTo>
                    <a:pt x="65" y="79"/>
                  </a:lnTo>
                  <a:lnTo>
                    <a:pt x="63" y="84"/>
                  </a:lnTo>
                  <a:lnTo>
                    <a:pt x="63" y="84"/>
                  </a:lnTo>
                  <a:lnTo>
                    <a:pt x="59" y="90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97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38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9" y="87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29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46" y="82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9" y="78"/>
                  </a:lnTo>
                  <a:lnTo>
                    <a:pt x="49" y="73"/>
                  </a:lnTo>
                  <a:lnTo>
                    <a:pt x="49" y="73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6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6558120" y="4462560"/>
              <a:ext cx="79200" cy="106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0" h="133">
                  <a:moveTo>
                    <a:pt x="100" y="125"/>
                  </a:moveTo>
                  <a:lnTo>
                    <a:pt x="100" y="125"/>
                  </a:lnTo>
                  <a:lnTo>
                    <a:pt x="99" y="129"/>
                  </a:lnTo>
                  <a:lnTo>
                    <a:pt x="99" y="129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96" y="133"/>
                  </a:lnTo>
                  <a:lnTo>
                    <a:pt x="96" y="133"/>
                  </a:lnTo>
                  <a:lnTo>
                    <a:pt x="92" y="133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0" y="119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50"/>
                  </a:lnTo>
                  <a:lnTo>
                    <a:pt x="17" y="130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13" y="133"/>
                  </a:lnTo>
                  <a:lnTo>
                    <a:pt x="13" y="133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31" y="10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8" y="99"/>
                  </a:lnTo>
                  <a:lnTo>
                    <a:pt x="78" y="9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5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0" y="3"/>
                  </a:lnTo>
                  <a:lnTo>
                    <a:pt x="100" y="125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5" name="Freeform 47"/>
            <p:cNvSpPr/>
            <p:nvPr/>
          </p:nvSpPr>
          <p:spPr>
            <a:xfrm>
              <a:off x="6657840" y="4489560"/>
              <a:ext cx="74880" cy="79200"/>
            </a:xfrm>
            <a:custGeom>
              <a:avLst/>
              <a:gdLst>
                <a:gd name="textAreaLeft" fmla="*/ 0 w 74880"/>
                <a:gd name="textAreaRight" fmla="*/ 74880 w 74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3" h="101">
                  <a:moveTo>
                    <a:pt x="93" y="50"/>
                  </a:moveTo>
                  <a:lnTo>
                    <a:pt x="93" y="50"/>
                  </a:lnTo>
                  <a:lnTo>
                    <a:pt x="92" y="61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86" y="80"/>
                  </a:lnTo>
                  <a:lnTo>
                    <a:pt x="81" y="88"/>
                  </a:lnTo>
                  <a:lnTo>
                    <a:pt x="81" y="88"/>
                  </a:lnTo>
                  <a:lnTo>
                    <a:pt x="75" y="93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56" y="10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34" y="101"/>
                  </a:lnTo>
                  <a:lnTo>
                    <a:pt x="25" y="98"/>
                  </a:lnTo>
                  <a:lnTo>
                    <a:pt x="25" y="98"/>
                  </a:lnTo>
                  <a:lnTo>
                    <a:pt x="18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7" y="82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75" y="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6" y="21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2" y="39"/>
                  </a:lnTo>
                  <a:lnTo>
                    <a:pt x="93" y="50"/>
                  </a:lnTo>
                  <a:lnTo>
                    <a:pt x="93" y="50"/>
                  </a:lnTo>
                  <a:close/>
                  <a:moveTo>
                    <a:pt x="75" y="51"/>
                  </a:moveTo>
                  <a:lnTo>
                    <a:pt x="75" y="51"/>
                  </a:lnTo>
                  <a:lnTo>
                    <a:pt x="75" y="44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2" y="31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54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18" y="58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21" y="71"/>
                  </a:lnTo>
                  <a:lnTo>
                    <a:pt x="24" y="77"/>
                  </a:lnTo>
                  <a:lnTo>
                    <a:pt x="24" y="77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6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4" y="82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71" y="73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5" y="59"/>
                  </a:lnTo>
                  <a:lnTo>
                    <a:pt x="75" y="51"/>
                  </a:lnTo>
                  <a:lnTo>
                    <a:pt x="75" y="51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6" name="Freeform 48"/>
            <p:cNvSpPr/>
            <p:nvPr/>
          </p:nvSpPr>
          <p:spPr>
            <a:xfrm>
              <a:off x="4319640" y="3343320"/>
              <a:ext cx="76320" cy="108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6" h="135">
                  <a:moveTo>
                    <a:pt x="56" y="82"/>
                  </a:moveTo>
                  <a:lnTo>
                    <a:pt x="56" y="132"/>
                  </a:lnTo>
                  <a:lnTo>
                    <a:pt x="56" y="132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4" y="134"/>
                  </a:lnTo>
                  <a:lnTo>
                    <a:pt x="54" y="134"/>
                  </a:lnTo>
                  <a:lnTo>
                    <a:pt x="52" y="134"/>
                  </a:lnTo>
                  <a:lnTo>
                    <a:pt x="52" y="134"/>
                  </a:lnTo>
                  <a:lnTo>
                    <a:pt x="47" y="135"/>
                  </a:lnTo>
                  <a:lnTo>
                    <a:pt x="47" y="135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0" y="134"/>
                  </a:lnTo>
                  <a:lnTo>
                    <a:pt x="40" y="134"/>
                  </a:lnTo>
                  <a:lnTo>
                    <a:pt x="39" y="133"/>
                  </a:lnTo>
                  <a:lnTo>
                    <a:pt x="39" y="133"/>
                  </a:lnTo>
                  <a:lnTo>
                    <a:pt x="39" y="132"/>
                  </a:lnTo>
                  <a:lnTo>
                    <a:pt x="39" y="82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2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6" y="4"/>
                  </a:lnTo>
                  <a:lnTo>
                    <a:pt x="96" y="4"/>
                  </a:lnTo>
                  <a:lnTo>
                    <a:pt x="95" y="7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7" name="Freeform 49"/>
            <p:cNvSpPr/>
            <p:nvPr/>
          </p:nvSpPr>
          <p:spPr>
            <a:xfrm>
              <a:off x="4394160" y="3370320"/>
              <a:ext cx="66600" cy="81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86" h="102">
                  <a:moveTo>
                    <a:pt x="86" y="47"/>
                  </a:moveTo>
                  <a:lnTo>
                    <a:pt x="86" y="47"/>
                  </a:lnTo>
                  <a:lnTo>
                    <a:pt x="86" y="51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2" y="54"/>
                  </a:lnTo>
                  <a:lnTo>
                    <a:pt x="7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9" y="62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29" y="83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1" y="87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69" y="85"/>
                  </a:lnTo>
                  <a:lnTo>
                    <a:pt x="69" y="8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1" y="83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1" y="92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69" y="99"/>
                  </a:lnTo>
                  <a:lnTo>
                    <a:pt x="69" y="99"/>
                  </a:lnTo>
                  <a:lnTo>
                    <a:pt x="59" y="101"/>
                  </a:lnTo>
                  <a:lnTo>
                    <a:pt x="59" y="101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36" y="101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19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7" y="83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71" y="8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6" y="36"/>
                  </a:lnTo>
                  <a:lnTo>
                    <a:pt x="86" y="44"/>
                  </a:lnTo>
                  <a:lnTo>
                    <a:pt x="86" y="47"/>
                  </a:lnTo>
                  <a:close/>
                  <a:moveTo>
                    <a:pt x="68" y="43"/>
                  </a:moveTo>
                  <a:lnTo>
                    <a:pt x="68" y="43"/>
                  </a:lnTo>
                  <a:lnTo>
                    <a:pt x="68" y="36"/>
                  </a:lnTo>
                  <a:lnTo>
                    <a:pt x="67" y="30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59" y="18"/>
                  </a:lnTo>
                  <a:lnTo>
                    <a:pt x="55" y="15"/>
                  </a:lnTo>
                  <a:lnTo>
                    <a:pt x="50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68" y="43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8" name="Freeform 50"/>
            <p:cNvSpPr/>
            <p:nvPr/>
          </p:nvSpPr>
          <p:spPr>
            <a:xfrm>
              <a:off x="4476600" y="3370320"/>
              <a:ext cx="51120" cy="81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66" h="102">
                  <a:moveTo>
                    <a:pt x="66" y="72"/>
                  </a:moveTo>
                  <a:lnTo>
                    <a:pt x="66" y="72"/>
                  </a:lnTo>
                  <a:lnTo>
                    <a:pt x="65" y="79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0" y="90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1" y="98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37" y="101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0" y="101"/>
                  </a:lnTo>
                  <a:lnTo>
                    <a:pt x="20" y="101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20" y="87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8" y="87"/>
                  </a:lnTo>
                  <a:lnTo>
                    <a:pt x="38" y="87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8" y="77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7" y="67"/>
                  </a:lnTo>
                  <a:lnTo>
                    <a:pt x="47" y="67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7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6" y="67"/>
                  </a:lnTo>
                  <a:lnTo>
                    <a:pt x="66" y="72"/>
                  </a:lnTo>
                  <a:lnTo>
                    <a:pt x="66" y="7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59" name="Freeform 51"/>
            <p:cNvSpPr/>
            <p:nvPr/>
          </p:nvSpPr>
          <p:spPr>
            <a:xfrm>
              <a:off x="4341960" y="4241880"/>
              <a:ext cx="80640" cy="106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1" h="134">
                  <a:moveTo>
                    <a:pt x="101" y="127"/>
                  </a:moveTo>
                  <a:lnTo>
                    <a:pt x="101" y="127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5" y="134"/>
                  </a:lnTo>
                  <a:lnTo>
                    <a:pt x="95" y="134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7" y="134"/>
                  </a:lnTo>
                  <a:lnTo>
                    <a:pt x="83" y="134"/>
                  </a:lnTo>
                  <a:lnTo>
                    <a:pt x="83" y="134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1" y="121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51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2" y="11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73" y="90"/>
                  </a:lnTo>
                  <a:lnTo>
                    <a:pt x="73" y="90"/>
                  </a:lnTo>
                  <a:lnTo>
                    <a:pt x="78" y="100"/>
                  </a:lnTo>
                  <a:lnTo>
                    <a:pt x="78" y="100"/>
                  </a:lnTo>
                  <a:lnTo>
                    <a:pt x="83" y="109"/>
                  </a:lnTo>
                  <a:lnTo>
                    <a:pt x="84" y="109"/>
                  </a:lnTo>
                  <a:lnTo>
                    <a:pt x="84" y="109"/>
                  </a:lnTo>
                  <a:lnTo>
                    <a:pt x="83" y="92"/>
                  </a:lnTo>
                  <a:lnTo>
                    <a:pt x="83" y="92"/>
                  </a:lnTo>
                  <a:lnTo>
                    <a:pt x="83" y="76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3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  <p:sp>
          <p:nvSpPr>
            <p:cNvPr id="260" name="Freeform 52"/>
            <p:cNvSpPr/>
            <p:nvPr/>
          </p:nvSpPr>
          <p:spPr>
            <a:xfrm>
              <a:off x="4443480" y="4268880"/>
              <a:ext cx="73080" cy="81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2" h="103">
                  <a:moveTo>
                    <a:pt x="92" y="51"/>
                  </a:moveTo>
                  <a:lnTo>
                    <a:pt x="92" y="51"/>
                  </a:lnTo>
                  <a:lnTo>
                    <a:pt x="92" y="61"/>
                  </a:lnTo>
                  <a:lnTo>
                    <a:pt x="89" y="72"/>
                  </a:lnTo>
                  <a:lnTo>
                    <a:pt x="89" y="72"/>
                  </a:lnTo>
                  <a:lnTo>
                    <a:pt x="86" y="80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73" y="9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56" y="102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34" y="102"/>
                  </a:lnTo>
                  <a:lnTo>
                    <a:pt x="25" y="99"/>
                  </a:lnTo>
                  <a:lnTo>
                    <a:pt x="25" y="99"/>
                  </a:lnTo>
                  <a:lnTo>
                    <a:pt x="17" y="95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5" y="8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6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6" y="22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8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6" y="21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92" y="40"/>
                  </a:lnTo>
                  <a:lnTo>
                    <a:pt x="92" y="51"/>
                  </a:lnTo>
                  <a:lnTo>
                    <a:pt x="92" y="51"/>
                  </a:lnTo>
                  <a:close/>
                  <a:moveTo>
                    <a:pt x="74" y="52"/>
                  </a:moveTo>
                  <a:lnTo>
                    <a:pt x="74" y="52"/>
                  </a:lnTo>
                  <a:lnTo>
                    <a:pt x="74" y="44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1" y="31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5" y="2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4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39" y="15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8" y="59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0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7" y="82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9" y="88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64" y="82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3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4" y="59"/>
                  </a:lnTo>
                  <a:lnTo>
                    <a:pt x="74" y="52"/>
                  </a:lnTo>
                  <a:lnTo>
                    <a:pt x="74" y="52"/>
                  </a:lnTo>
                  <a:close/>
                </a:path>
              </a:pathLst>
            </a:custGeom>
            <a:solidFill>
              <a:srgbClr val="a9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494c4f"/>
                </a:solidFill>
                <a:latin typeface="Calibri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494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494c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494c4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c4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DF0E-EE72-4817-BE35-8307BB26B1CC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Decision Tree Diagram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000" y="1689120"/>
            <a:ext cx="150156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c4f"/>
                </a:solidFill>
                <a:latin typeface="Calibri"/>
              </a:rPr>
              <a:t>Insert your desired text here</a:t>
            </a: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921000" y="118224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921000" y="160920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921000" y="205848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6921000" y="248616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921000" y="299196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09" name="PlaceHolder 8"/>
          <p:cNvSpPr>
            <a:spLocks noGrp="1"/>
          </p:cNvSpPr>
          <p:nvPr>
            <p:ph/>
          </p:nvPr>
        </p:nvSpPr>
        <p:spPr>
          <a:xfrm>
            <a:off x="6921000" y="341748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0" name="PlaceHolder 9"/>
          <p:cNvSpPr>
            <a:spLocks noGrp="1"/>
          </p:cNvSpPr>
          <p:nvPr>
            <p:ph/>
          </p:nvPr>
        </p:nvSpPr>
        <p:spPr>
          <a:xfrm>
            <a:off x="6921000" y="389268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1" name="PlaceHolder 10"/>
          <p:cNvSpPr>
            <a:spLocks noGrp="1"/>
          </p:cNvSpPr>
          <p:nvPr>
            <p:ph/>
          </p:nvPr>
        </p:nvSpPr>
        <p:spPr>
          <a:xfrm>
            <a:off x="6921000" y="431964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2" name="PlaceHolder 11"/>
          <p:cNvSpPr>
            <a:spLocks noGrp="1"/>
          </p:cNvSpPr>
          <p:nvPr>
            <p:ph/>
          </p:nvPr>
        </p:nvSpPr>
        <p:spPr>
          <a:xfrm>
            <a:off x="2595240" y="1837800"/>
            <a:ext cx="1593720" cy="4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3" name="PlaceHolder 12"/>
          <p:cNvSpPr>
            <a:spLocks noGrp="1"/>
          </p:cNvSpPr>
          <p:nvPr>
            <p:ph/>
          </p:nvPr>
        </p:nvSpPr>
        <p:spPr>
          <a:xfrm>
            <a:off x="2595240" y="3668760"/>
            <a:ext cx="159372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4" name="PlaceHolder 13"/>
          <p:cNvSpPr>
            <a:spLocks noGrp="1"/>
          </p:cNvSpPr>
          <p:nvPr>
            <p:ph/>
          </p:nvPr>
        </p:nvSpPr>
        <p:spPr>
          <a:xfrm>
            <a:off x="4856040" y="412128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5" name="PlaceHolder 14"/>
          <p:cNvSpPr>
            <a:spLocks noGrp="1"/>
          </p:cNvSpPr>
          <p:nvPr>
            <p:ph/>
          </p:nvPr>
        </p:nvSpPr>
        <p:spPr>
          <a:xfrm>
            <a:off x="4856040" y="228600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6" name="PlaceHolder 15"/>
          <p:cNvSpPr>
            <a:spLocks noGrp="1"/>
          </p:cNvSpPr>
          <p:nvPr>
            <p:ph/>
          </p:nvPr>
        </p:nvSpPr>
        <p:spPr>
          <a:xfrm>
            <a:off x="4856040" y="139212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7" name="PlaceHolder 16"/>
          <p:cNvSpPr>
            <a:spLocks noGrp="1"/>
          </p:cNvSpPr>
          <p:nvPr>
            <p:ph/>
          </p:nvPr>
        </p:nvSpPr>
        <p:spPr>
          <a:xfrm>
            <a:off x="4856040" y="322092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Decision Tree Diagram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689120"/>
            <a:ext cx="150156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c4f"/>
                </a:solidFill>
                <a:latin typeface="Calibri"/>
              </a:rPr>
              <a:t>Insert your desired text here</a:t>
            </a: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921000" y="118224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921000" y="1609200"/>
            <a:ext cx="17542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921000" y="229212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6921000" y="3209400"/>
            <a:ext cx="175428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921000" y="389268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5" name="PlaceHolder 8"/>
          <p:cNvSpPr>
            <a:spLocks noGrp="1"/>
          </p:cNvSpPr>
          <p:nvPr>
            <p:ph/>
          </p:nvPr>
        </p:nvSpPr>
        <p:spPr>
          <a:xfrm>
            <a:off x="6921000" y="4319640"/>
            <a:ext cx="1754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6" name="PlaceHolder 9"/>
          <p:cNvSpPr>
            <a:spLocks noGrp="1"/>
          </p:cNvSpPr>
          <p:nvPr>
            <p:ph/>
          </p:nvPr>
        </p:nvSpPr>
        <p:spPr>
          <a:xfrm>
            <a:off x="2595240" y="1837800"/>
            <a:ext cx="1593720" cy="4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7" name="PlaceHolder 10"/>
          <p:cNvSpPr>
            <a:spLocks noGrp="1"/>
          </p:cNvSpPr>
          <p:nvPr>
            <p:ph/>
          </p:nvPr>
        </p:nvSpPr>
        <p:spPr>
          <a:xfrm>
            <a:off x="2595240" y="3668760"/>
            <a:ext cx="159372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8" name="PlaceHolder 11"/>
          <p:cNvSpPr>
            <a:spLocks noGrp="1"/>
          </p:cNvSpPr>
          <p:nvPr>
            <p:ph/>
          </p:nvPr>
        </p:nvSpPr>
        <p:spPr>
          <a:xfrm>
            <a:off x="4856040" y="412128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29" name="PlaceHolder 12"/>
          <p:cNvSpPr>
            <a:spLocks noGrp="1"/>
          </p:cNvSpPr>
          <p:nvPr>
            <p:ph/>
          </p:nvPr>
        </p:nvSpPr>
        <p:spPr>
          <a:xfrm>
            <a:off x="4856040" y="1392120"/>
            <a:ext cx="159408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4c4f"/>
                </a:solidFill>
                <a:latin typeface="Calibri"/>
              </a:rPr>
              <a:t>Decision Tree Diagram</a:t>
            </a:r>
            <a:endParaRPr b="0" lang="en-US" sz="42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51240" y="1276200"/>
            <a:ext cx="42400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c4f"/>
                </a:solidFill>
                <a:latin typeface="Calibri"/>
              </a:rPr>
              <a:t>This is a sample text. Insert your desired text here.</a:t>
            </a:r>
            <a:endParaRPr b="0" lang="en-US" sz="18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58600" y="2523600"/>
            <a:ext cx="16174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748120" y="2523600"/>
            <a:ext cx="16174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749400" y="2758680"/>
            <a:ext cx="161748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c4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714240" y="3552840"/>
            <a:ext cx="1617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2804760" y="3552840"/>
            <a:ext cx="161748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7" name="PlaceHolder 8"/>
          <p:cNvSpPr>
            <a:spLocks noGrp="1"/>
          </p:cNvSpPr>
          <p:nvPr>
            <p:ph/>
          </p:nvPr>
        </p:nvSpPr>
        <p:spPr>
          <a:xfrm>
            <a:off x="4721040" y="3552840"/>
            <a:ext cx="161748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  <p:sp>
        <p:nvSpPr>
          <p:cNvPr id="338" name="PlaceHolder 9"/>
          <p:cNvSpPr>
            <a:spLocks noGrp="1"/>
          </p:cNvSpPr>
          <p:nvPr>
            <p:ph/>
          </p:nvPr>
        </p:nvSpPr>
        <p:spPr>
          <a:xfrm>
            <a:off x="6811920" y="3552840"/>
            <a:ext cx="1617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600" spc="-1" strike="noStrike">
              <a:solidFill>
                <a:srgbClr val="494c4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4T01:41:52Z</dcterms:created>
  <dc:creator>Grace</dc:creator>
  <dc:description/>
  <dc:language>en-US</dc:language>
  <cp:lastModifiedBy>Grace</cp:lastModifiedBy>
  <dcterms:modified xsi:type="dcterms:W3CDTF">2020-07-04T01:42:33Z</dcterms:modified>
  <cp:revision>1</cp:revision>
  <dc:subject/>
  <dc:title>Decision Tree Diagram</dc:title>
</cp:coreProperties>
</file>